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10088-055C-4162-BDEE-AE77E050E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88293-F616-48F2-84AD-52E0DF40E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E75D8-62F8-496C-8374-589CA525D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7B716-D183-4645-945B-A4A585932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FBAED-7AF5-4A85-B0D7-DF0706270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38DB1-561F-46AE-8F14-A4F3D86AE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D52DD-9CDD-45BB-B2CD-FD4C52F69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9D9A3-E778-4F30-A827-23442719B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20814-4017-4483-91E7-C466F02B9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ADFEB-413D-4A15-98FE-598AAC726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99D6A-6F78-4064-A249-36D124696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885A5-B929-41DE-A801-09DE6A0D7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E18D8-6CC2-4811-A760-06F9278FAC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94320" y="609480"/>
            <a:ext cx="7444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VU @ Second Lif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373760" y="2362320"/>
            <a:ext cx="663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reating a (virtual) community of learn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760" y="5410080"/>
            <a:ext cx="92732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nton Eliëns, Frans Feldberg, Elly Konijn, Egon Comp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EW                FEWEB              FSW      COMMUNICAT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5562720" y="3124080"/>
            <a:ext cx="2881080" cy="21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5165640" y="2937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135880" y="380880"/>
            <a:ext cx="668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EARCH PERSPECTIVES -- VIRTUAL VERSUS REAL  2/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91200" y="2895480"/>
            <a:ext cx="786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Life as a platform for Serious Gam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419000" y="5562720"/>
            <a:ext cx="397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s it technically adequat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5165640" y="2937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810960" y="380880"/>
            <a:ext cx="499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ARATIVE TECHNICAL OVERVIEW  1/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05120" y="1523880"/>
            <a:ext cx="6940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ame engine(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ndering system -- 2D/3D graphic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put system -- user interac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ound system -- ambient and re-acti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hysics system -- for the blockbust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nimation system -- motion of objects and charact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rtificial intelligence system -- for real challenge(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16240" y="5522760"/>
            <a:ext cx="722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s Second Life sufficiently scalable to adapt to expected growth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5165640" y="2937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810960" y="380880"/>
            <a:ext cx="499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ARATIVE TECHNICAL OVERVIEW  2/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914400"/>
            <a:ext cx="8915400" cy="440856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363600" y="5599080"/>
            <a:ext cx="677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lC = blaxxun Community, AW = AlphaWorld, D3D = Delta3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L2 = Half Life 2 Source SDK, SL = Second Lif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5165640" y="2937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334480" y="380880"/>
            <a:ext cx="332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RIPTING IN SECOND LIF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800080" y="4952880"/>
            <a:ext cx="6026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quest -- wiki.secondlife.com/wiki/LlHTTPReque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scape -- wiki.secondlife.com/wiki/LlEscapeUR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sponse -- wiki.secondlife.com/wiki/Http_respon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72600" y="1752480"/>
            <a:ext cx="84499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vector target= &lt;162,134,27&gt;; </a:t>
            </a: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// coordinates                                    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EL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efault { state_entry(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llSetText("Info @ VU",&lt;255,255,255&gt;,5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llSetSitText("teleport"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otation my_rot=llGetRot(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llSitTarget((target - llGetPos()) / my_rot,ZERO_ROTATION / my_rot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hanged(integer change) {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llUnSit(llAvatarOnSitTarget());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// end default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053000" y="874800"/>
            <a:ext cx="256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-like, server-sid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…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5165640" y="2937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031000" y="304920"/>
            <a:ext cx="38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MINISTRATION AND 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375560" y="5257800"/>
            <a:ext cx="585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lurl.com/secondlife/VU%20University%20NL/29/1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621560" y="4495680"/>
            <a:ext cx="94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lurl(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523880" y="2971800"/>
            <a:ext cx="565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knowledgebase -- secondlife.com/knowledgeba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cripting -- wiki.secondlife.com/wiki/LSL_Port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ain page -- https://wiki.secondlife.com/wik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621560" y="2133720"/>
            <a:ext cx="89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ki(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83280" y="1255680"/>
            <a:ext cx="515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ownership, access and modifiability rights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5165640" y="2937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344480" y="380880"/>
            <a:ext cx="449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LIFE SUCCESS FACTORS  1/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736280" y="1484280"/>
            <a:ext cx="62431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nvergence of social networking and content cre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mmersive networked 3D environ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clusion of elementary economic principl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on't miss the boat effe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free and easy accessible 3D design tool s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doption by big companies like IBM, Reebok, 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arketing of Second Life by Linden Lab (?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he promise to make (real) money (?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26960" y="4800600"/>
            <a:ext cx="82015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ccording to Philip Rosedale, CEO of Linden Lab, (interview in .NET magazine, issue 158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January 2007) the success of SL is due to the fact th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1) it offers a set of capabilities, which are in many different ways superior to the real world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2) the decision to allow residents to own the intellectual property rights to their creations an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3) because Second Life is full of creative possibilities, and opportunites for innovation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5165640" y="2937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344480" y="380880"/>
            <a:ext cx="449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LIFE SUCCESS FACTORS  2/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736640" y="14842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415880" y="1371600"/>
            <a:ext cx="74001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reference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rules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-- construct and communicate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outcome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-- a second worl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value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-- virtual and real (monetary) reward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effort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-- requires elementary skill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attachment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-- a virtual identi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consequences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-- transfer to first lif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979640" y="5562720"/>
            <a:ext cx="695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L a veritable media-supported augmentation of our first life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5165640" y="2937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724280" y="304920"/>
            <a:ext cx="418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LD YOUR BREATH -- GOING L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1092240"/>
            <a:ext cx="4495680" cy="33703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4495680" y="3448080"/>
            <a:ext cx="4648320" cy="348444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5335200" y="1523880"/>
            <a:ext cx="263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TL4, AT5, CampusT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ool, Elsev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840960" y="5334120"/>
            <a:ext cx="2108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0 &lt; visi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crease #visi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rmy of Mario’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5165640" y="2937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716440" y="304920"/>
            <a:ext cx="321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UTURE DEVELOPMENT(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190760" y="4800600"/>
            <a:ext cx="4681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AA: 3D weather data visualiz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OA: test the water in a virtual worl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C: spare change in secondlif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E: be anyone, set your own agend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MORPG: secondlife as a ga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516040" y="1447920"/>
            <a:ext cx="638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NORAMA -- 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mediating social aware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34960" y="3048120"/>
            <a:ext cx="2722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MERA @ V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ulti-disciplin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earch instit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631560" y="2209680"/>
            <a:ext cx="2338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f-reflection(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sual encounter(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ccasional battle(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5165640" y="2937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631200" y="380880"/>
            <a:ext cx="186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133720" y="4419720"/>
            <a:ext cx="68511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CKNOWLEDGEMENT(S)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We thank the students involved, Viola van Alphen (FEWEB)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om Bestebreurtje (FEW), Elbert-Jan Hennipman (FEW)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nd last but not least Bjorn de Boer (FSW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for their enthusiasm, creativity, and of course their hard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which led to an amazing resul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800600" cy="363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509840" y="1865160"/>
            <a:ext cx="63651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RODUC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REATING PRESENCE IN A PARTICIPATORY CULTUR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ILDING A VIRTUAL CAMPU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LIFE AS AN EDUCATIONAL PLATFOR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EARCH PERSPECTIVES -- VIRTUAL VERSUS RE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ARATIVE TECHNICAL OVERVIE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RIPTING IN SECOND LI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MINISTRATION AND SUPPO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LIFE SUCCESS FACTOR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LD YOUR BREATH -- GOING LIV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UTURE DEVELOPMENT(S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CLUSION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165080" y="765000"/>
            <a:ext cx="150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527840" y="533520"/>
            <a:ext cx="323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U @ Second Lif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165640" y="2937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631200" y="380880"/>
            <a:ext cx="193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96400" y="1255680"/>
            <a:ext cx="63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rapid adoption of Second Life has been a surprise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615680" y="2590920"/>
            <a:ext cx="7198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life – Amsterdam – center of commerce / individual freed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life – business, corporate presence, / irregularities (2e kam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97120" y="4764240"/>
            <a:ext cx="653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y does a respectable university, like VU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nt to be present in Second Life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5165640" y="2937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440440" y="304920"/>
            <a:ext cx="630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REATING PRESENCE IN A PARTICIPATORY CUL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6480" y="5486400"/>
            <a:ext cx="836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shift of culture, from a media consumer culture to a participatory cultur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re users also actively contribute cont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708240" y="4572000"/>
            <a:ext cx="190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[Jenkins (2006)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053360" y="1103400"/>
            <a:ext cx="17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Neuromancer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321520" y="209376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taverse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3440" y="1295280"/>
            <a:ext cx="146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Snowcrash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976320" y="1941480"/>
            <a:ext cx="10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laxx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829520" y="2590920"/>
            <a:ext cx="138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phawor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480920" y="2703600"/>
            <a:ext cx="202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orld of warcra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76320" y="3389400"/>
            <a:ext cx="100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b 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44680" y="3008160"/>
            <a:ext cx="12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verqu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0560" y="3389400"/>
            <a:ext cx="107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out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320080" y="3770280"/>
            <a:ext cx="72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ick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5165640" y="2937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726080" y="304920"/>
            <a:ext cx="400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ILDING A VIRTUAL CAMPUS 1/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52280" y="3048120"/>
            <a:ext cx="4876920" cy="36576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304560" y="1066680"/>
            <a:ext cx="46933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uild initial (throwaway) prototyp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xplore content creation technolog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reate tutorial(s) for content contribu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nalyse technological requiremen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775480" y="3886200"/>
            <a:ext cx="2139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ali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formation por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eting sp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945760" y="160020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rgets / sty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5165640" y="2937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726080" y="304920"/>
            <a:ext cx="400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ILDING A VIRTUAL CAMPUS 2/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228600" y="2895480"/>
            <a:ext cx="4876920" cy="36576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5561640" y="3733920"/>
            <a:ext cx="30441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 stud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om  FEW / FSW / FEWE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il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rip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cora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 months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65040" y="1255680"/>
            <a:ext cx="756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cture room, research laboratory, information panels, photo gall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lepole(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5165640" y="2937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667600" y="380880"/>
            <a:ext cx="599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LIFE AS AN EDUCATIONAL PLATFORM  1/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98960" y="1143000"/>
            <a:ext cx="512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first idea that comes to mind, naturally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s to use Second Life to offer courses onlin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85080" y="2514600"/>
            <a:ext cx="72979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ut, although we do have plans to give lectures (college) on law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robably including the enactment of a particular cas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we do consider this approach as rather naiv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nd frankly we see no reason to include what may be consider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n outdated paradigm of learning in our virtual campu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where there might be more appealing alternativ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imilarly, using the virtual laboratory for experimen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ght not be the best way to offer courses, although, again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we do intend to provide a model of a living cell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llowing students to study the structure, functional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nd behavior of organic cells in virtual spac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5165640" y="2937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667600" y="380880"/>
            <a:ext cx="599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LIFE AS AN EDUCATIONAL PLATFORM  2/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93480" y="1219320"/>
            <a:ext cx="62874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ve lear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xperiencing the world in new way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forming new affiliat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reparation for future learn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ritical learn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hink about the domain at a meta-leve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s a complex system of inter-rela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udent project(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ituated cognition in semiotic domai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1720" y="5751360"/>
            <a:ext cx="453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L as a platform for SERIOUS GAME(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d COMMUNICATION of SCI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5165640" y="2937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135880" y="380880"/>
            <a:ext cx="668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EARCH PERSPECTIVES -- VIRTUAL VERSUS REAL  1/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6200" y="3962520"/>
            <a:ext cx="91310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construction and deployment of humanoid intelligent ag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ways agents can provide an explanation in rich media contex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search as guidance in finding locations in large virtual worl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virtual replicas of existing buildings to provide immersive access to 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effectiveness of the use of an intelligent humanoid agent wrt. loo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differences between perceptions of fictitious versus existing characters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role of emotions in establishing communication between real and virtual hum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698960" y="3429000"/>
            <a:ext cx="99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56840" y="1447920"/>
            <a:ext cx="7691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s decision-making in a virtual environment the same as or similar 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ecision-making in the real world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nd what about investments, and starting a new company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7T13:30:23Z</dcterms:created>
  <dc:creator>User name placeholder</dc:creator>
  <dc:description/>
  <dc:language>en-US</dc:language>
  <cp:lastModifiedBy>User name placeholder</cp:lastModifiedBy>
  <dcterms:modified xsi:type="dcterms:W3CDTF">2007-03-28T14:57:57Z</dcterms:modified>
  <cp:revision>6</cp:revision>
  <dc:subject/>
  <dc:title>Slide 1</dc:title>
</cp:coreProperties>
</file>