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65B-1175-471B-A3E0-256AD966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AC6C-DD9B-437E-A930-CD4DA78B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E46-5AC9-4DF5-B05B-84B2C312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B3AC-3018-4AF6-BEC9-28D7738D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0B63-CDA9-441C-A08B-DD896FDD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B5E-51D8-4F52-9974-474A105A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495-A189-44FE-83D4-FF773518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9B54-E92D-46C7-8C2D-44A33C43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A84B-E8FE-4C21-836E-0586FA2F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91C8-A239-4737-A038-BC4DB4EB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1E9C-1765-4FD1-9CDE-88F48FBD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AEB9-E90F-4C3D-BDA2-C029E713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55F4-C63E-4F31-BB2D-4750339A5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05120" y="182880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3440" y="2057400"/>
            <a:ext cx="81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let the fun beg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7680" y="1371600"/>
            <a:ext cx="79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's be serious – X is not a (simple) g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6160" y="3429000"/>
            <a:ext cx="69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in { ICT, climate, promotion, …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83960" y="178920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ference model for serious g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7720" y="2590920"/>
            <a:ext cx="851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reference model for serious ga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77640" y="1198440"/>
            <a:ext cx="8563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service management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utco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learning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intellectual satisf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study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corporate id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onsequenc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job qualif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cenario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problem(s) service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war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service level agre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2600" y="533520"/>
            <a:ext cx="70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service management g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88560" y="251460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engine architecture require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6160" y="2362320"/>
            <a:ext cx="760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dering system -- 2D/3D graph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 system -- user inter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nd system -- ambient and re-a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sics system -- for the blockbus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mation system -- motion of objects and charac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ificial intelligence system -- for real challenge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7840" y="838080"/>
            <a:ext cx="25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3040" y="2438280"/>
            <a:ext cx="642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chnical and artistic iss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9000" y="228600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20080" y="545004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is, let’s begi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1143000"/>
            <a:ext cx="8915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laying video gam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s a waste of ti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63800" y="20970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ly, let’s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47360" y="541008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class gam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5040" y="685800"/>
            <a:ext cx="810252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 is the move from the verbal to the visual a los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a gai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it be that, due to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 it has to be handled visuall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 verbal is no longer adequat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9600" y="1295280"/>
            <a:ext cx="7678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do video gam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ve to teach u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teracy and learnin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6520" y="380880"/>
            <a:ext cx="8091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ituated cogni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emiotic domai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35720" y="60336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88920" y="2209680"/>
            <a:ext cx="681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ing the world in new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ming new affil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paration for futu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8640" y="2286000"/>
            <a:ext cx="627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game ov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727520" y="4572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8440" y="2743200"/>
            <a:ext cx="794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ink about the domain at a meta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omplex system of inter-relat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6:39:10Z</dcterms:created>
  <dc:creator>User name placeholder</dc:creator>
  <dc:description/>
  <dc:language>en-US</dc:language>
  <cp:lastModifiedBy>User name placeholder</cp:lastModifiedBy>
  <dcterms:modified xsi:type="dcterms:W3CDTF">2007-02-26T19:07:00Z</dcterms:modified>
  <cp:revision>4</cp:revision>
  <dc:subject/>
  <dc:title>Slide 1</dc:title>
</cp:coreProperties>
</file>