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58F-33AA-4EE3-B0D5-B4FB7D1E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CF1-3BF1-409D-B2AA-50FCFF41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559-0E88-4B00-B827-F5FA9F61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36E-55E7-46EE-AD77-6A11F9FD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3EB-7EB6-481C-ACC3-238B80DE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FE0-E2CC-4CBD-B764-E34D44C1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F1F-CA23-422F-84A7-9AC91205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538-8F14-4C9C-8E40-E87249F2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467-F2F1-4A3B-871F-FCCA3039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BBE-4384-4744-A57E-87BF1E7E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DD1-61B9-4100-A3E6-15BF9754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BF2-316C-4B05-987E-A53E4942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FA7C-FA81-4563-A5CF-B12619692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2360" y="2819520"/>
            <a:ext cx="20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81640" y="281952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or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77080" y="259092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160" y="25909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76360" y="25909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a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3680" y="304812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is a social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5909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2360" y="281952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7440" y="25909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259092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by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77800" y="25909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25909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560" y="2438280"/>
            <a:ext cx="259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2000" y="3276720"/>
            <a:ext cx="25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2590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6720" y="259092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83080" y="2819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1600" y="2590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 of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82720" y="28195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680" y="259092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is not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82000" y="28195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10600" y="27432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63040" y="259092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 compu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4920" y="281952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     game    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3440" y="2819520"/>
            <a:ext cx="21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28195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entered multi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2720" y="274320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89840" y="2438280"/>
            <a:ext cx="388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1280" y="3276720"/>
            <a:ext cx="38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6-10-14T15:37:50Z</dcterms:modified>
  <cp:revision>5</cp:revision>
  <dc:subject/>
  <dc:title>Slide 1</dc:title>
</cp:coreProperties>
</file>