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E155-496E-4FBC-A1EA-4D5B92DD07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E47D-4218-4DAD-A8BA-450AE15D77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842F-A3EA-4C5B-896D-2A8C848888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308C-D376-41D0-9D9F-F96CA0C6FF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650C-954F-4C33-9B7C-5614B915C6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C61A-1EE3-4BE9-956A-BEDFFE6977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364C-F0F5-49C6-BD99-0122C5BA2D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83E4-1871-4F3B-B64B-489A71E231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EC10-E762-4227-AE75-4452F78273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D671-7CE9-44E0-A2D2-9B341ABC49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8E1D-4868-4223-963A-47AB4411E4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77CE-AB86-4419-8EB0-D502FE78D8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BF4E-AA2F-492A-A6FB-A34463FD0E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4AC9-0C9C-43EE-8BB3-574B9D2257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13F0-DD8C-4BD8-BDC5-8F7DCEC1A5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BD3A-B657-4F89-9D82-7E7F4327A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22DA-DE42-4C82-BCD2-2765A281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3601-527E-4870-9E56-2AC5515EF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AC9D-69C3-40D1-8EDC-6EA5B86AB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326E-D8EA-4D74-9DAA-82199C52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F2C1-10B0-48E1-BE36-14DE08A9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AB07-DC8B-4006-906D-7A9AF70C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5B30-2CD5-4750-B7C6-0E820DFB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BB98-B5B2-4758-A2A1-24DF789F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7F4D-AB17-4FF2-9F05-BC4F2835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5982-C22A-4BB4-A707-3766D8B6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4A93-FE9B-4891-9566-6DEA988B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25E2-42ED-4DB7-AF21-9FBFCBE4B2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BC44-3916-4646-8D0B-2C18FAAA59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2864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ANORAM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Rich VRML Platform For Online Gam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56800" y="4714560"/>
            <a:ext cx="4357800" cy="1042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Si Yin    Anton Elie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:\Documents and Settings\Administrator\Desktop\title.jpg"/>
          <p:cNvPicPr/>
          <p:nvPr/>
        </p:nvPicPr>
        <p:blipFill>
          <a:blip r:embed="rId1"/>
          <a:stretch/>
        </p:blipFill>
        <p:spPr>
          <a:xfrm>
            <a:off x="6072120" y="3405240"/>
            <a:ext cx="3071880" cy="3452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hoto Share Applic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E31D-D7F9-4476-8DAB-23CE9DEE34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D:\Work\PANORAMA\ShortPaper\figure3_2.jpg"/>
          <p:cNvPicPr/>
          <p:nvPr/>
        </p:nvPicPr>
        <p:blipFill>
          <a:blip r:embed="rId2"/>
          <a:stretch/>
        </p:blipFill>
        <p:spPr>
          <a:xfrm>
            <a:off x="1357200" y="1643040"/>
            <a:ext cx="6318360" cy="4429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Documents and Settings\Administrator\Desktop\vu.gif"/>
          <p:cNvPicPr/>
          <p:nvPr/>
        </p:nvPicPr>
        <p:blipFill>
          <a:blip r:embed="rId3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vantages to other Online Gaming Platfor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ee and Open sour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ll the players and tools needed can be found free or open-source on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 can totally build up your game for fre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 performance of VR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tally a 3D game engi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igh rendering spe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pen standar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rectX9 fully support, you can port your effects easil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yalty free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ree authoring tools available(Flux, VrmlPad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 can also build your world from Text Editor (It’s also very convenien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D806-BE64-4EED-A75C-A5EC08FFF4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C:\Documents and Settings\Administrator\Desktop\vu.gif"/>
          <p:cNvPicPr/>
          <p:nvPr/>
        </p:nvPicPr>
        <p:blipFill>
          <a:blip r:embed="rId1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500" fill="hold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500" fill="hold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sadvantage to other online Gaming platform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tibility problem among different play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ard to find some worlds can be played as same using different playe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ome players have their own special featur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automatic installation on today's brows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ser has to install the plug-in mannualy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0797-CFFE-412A-87B1-0FFF16BF46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C:\Documents and Settings\Administrator\Desktop\vu.gif"/>
          <p:cNvPicPr/>
          <p:nvPr/>
        </p:nvPicPr>
        <p:blipFill>
          <a:blip r:embed="rId1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new design model for multi-user support in VRM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n-source development environ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’s not only for games, but can also used in other web 3d applica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bine Google UI to overcome the tedious work in programming the interface in VRM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699D-1030-488E-99A3-BBC5D4CB60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C:\Documents and Settings\Administrator\Desktop\vu.gif"/>
          <p:cNvPicPr/>
          <p:nvPr/>
        </p:nvPicPr>
        <p:blipFill>
          <a:blip r:embed="rId1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&amp;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1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CD04-D447-401F-B330-26C0196710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C:\Documents and Settings\Administrator\Desktop\vu.gif"/>
          <p:cNvPicPr/>
          <p:nvPr/>
        </p:nvPicPr>
        <p:blipFill>
          <a:blip r:embed="rId1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blems in Traditional VRML G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 quality im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ple Polyg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ull tex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or Ligh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communication fac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ngle us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orporate with other appl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Documents and Settings\Administrator\Desktop\wasp-soccer1.jpg"/>
          <p:cNvPicPr/>
          <p:nvPr/>
        </p:nvPicPr>
        <p:blipFill>
          <a:blip r:embed="rId1"/>
          <a:stretch/>
        </p:blipFill>
        <p:spPr>
          <a:xfrm>
            <a:off x="2401920" y="2066760"/>
            <a:ext cx="4181400" cy="4645080"/>
          </a:xfrm>
          <a:prstGeom prst="rect">
            <a:avLst/>
          </a:prstGeom>
          <a:ln w="0">
            <a:noFill/>
          </a:ln>
        </p:spPr>
      </p:pic>
      <p:sp>
        <p:nvSpPr>
          <p:cNvPr id="5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482D-62A5-454D-B28E-F0665A2B18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Documents and Settings\Administrator\Desktop\vu.gif"/>
          <p:cNvPicPr/>
          <p:nvPr/>
        </p:nvPicPr>
        <p:blipFill>
          <a:blip r:embed="rId2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RML Games Toda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gh quality im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x polygon and texture thanks to the fast video car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rectX9 fully sup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ader Program in VR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communication problems still haven’t been solv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0FD2-06C2-47BD-A90E-AAF77ED603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Documents and Settings\Administrator\Desktop\2.jpg"/>
          <p:cNvPicPr/>
          <p:nvPr/>
        </p:nvPicPr>
        <p:blipFill>
          <a:blip r:embed="rId1"/>
          <a:stretch/>
        </p:blipFill>
        <p:spPr>
          <a:xfrm>
            <a:off x="2262240" y="1994040"/>
            <a:ext cx="4906800" cy="5949720"/>
          </a:xfrm>
          <a:prstGeom prst="rect">
            <a:avLst/>
          </a:prstGeom>
          <a:ln w="0">
            <a:noFill/>
          </a:ln>
        </p:spPr>
      </p:pic>
      <p:sp>
        <p:nvSpPr>
          <p:cNvPr id="61" name="Footer Placeholder 4"/>
          <p:cNvSpPr/>
          <p:nvPr/>
        </p:nvSpPr>
        <p:spPr>
          <a:xfrm>
            <a:off x="307188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Documents and Settings\Administrator\Desktop\vu.gif"/>
          <p:cNvPicPr/>
          <p:nvPr/>
        </p:nvPicPr>
        <p:blipFill>
          <a:blip r:embed="rId2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lternative Solu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unication Ser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mpatibility Problem with other play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t open enough for developer to expa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pensive charges, licenses, user number limi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LP with socke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 academic research, not mature enoug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n only run  in 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w Performa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a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ard to integrate and slow development perio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w Performa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3286080" y="6357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E8EA-D5A3-441A-AAC7-3A3262E2ED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Documents and Settings\Administrator\Desktop\vu.gif"/>
          <p:cNvPicPr/>
          <p:nvPr/>
        </p:nvPicPr>
        <p:blipFill>
          <a:blip r:embed="rId1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PANORAMA Proj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tform to show self-reflec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lligent, Interactive and visually good look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hance the awareness within the around environ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5BF0-D566-4534-BE77-66E1695D6A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Documents and Settings\Administrator\Desktop\vu.gif"/>
          <p:cNvPicPr/>
          <p:nvPr/>
        </p:nvPicPr>
        <p:blipFill>
          <a:blip r:embed="rId1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ystem Desig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ke VRML World For the Game and other applica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alistic 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teraction with user (web 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 AJAX + EAI to set up a communication facilit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requent asynchronize communication with the server so you can talk with other guy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n’t have to refresh the page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 Google Web Toolkits to make control panel and integrate with other web cont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vercome the weakness of UI in VR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legantly  work with other web elements(form, text, tags…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BD20-0CD9-4B31-B64B-249CA676E0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Documents and Settings\Administrator\Desktop\vu.gif"/>
          <p:cNvPicPr/>
          <p:nvPr/>
        </p:nvPicPr>
        <p:blipFill>
          <a:blip r:embed="rId1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5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500" fill="hold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ystem Architect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0040" y="150012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11EC-889F-4C1E-A9B7-4AD0F12F21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D:\Work\PANORAMA\ShortPaper\figure1.jpg"/>
          <p:cNvPicPr/>
          <p:nvPr/>
        </p:nvPicPr>
        <p:blipFill>
          <a:blip r:embed="rId1"/>
          <a:stretch/>
        </p:blipFill>
        <p:spPr>
          <a:xfrm>
            <a:off x="1571760" y="1571760"/>
            <a:ext cx="5902200" cy="3786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Documents and Settings\Administrator\Desktop\vu.gif"/>
          <p:cNvPicPr/>
          <p:nvPr/>
        </p:nvPicPr>
        <p:blipFill>
          <a:blip r:embed="rId2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snfer value through the EAI interfa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cument.Contact3D.setNodeEventIn(node, field, value); # send the value in VR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rowser.loadURL(“OnEvent(par)”, v); # call the function out of VR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JAX request made in Javascript or the Google RPC at cli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t Timeout value smaller enough if you want to refresh it frequentl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rver page can be implemented in whatever way you lik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GI, PHP, Perl, and Java with a databa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nk about the GTal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gramming in Java to make the control interface in GWT saves lot of tim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’s not only on the HTML side, but also for the VR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gramming UI in VRML is time consum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7538-4D1A-40E2-9750-03AE16F1CC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Documents and Settings\Administrator\Desktop\vu.gif"/>
          <p:cNvPicPr/>
          <p:nvPr/>
        </p:nvPicPr>
        <p:blipFill>
          <a:blip r:embed="rId1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500" fill="hold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500" fill="hold"/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Jumping Tiger Ga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B9C8-F801-4B89-9A7F-81E0B00305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D:\Work\PANORAMA\ShortPaper\figure2_2.jpg"/>
          <p:cNvPicPr/>
          <p:nvPr/>
        </p:nvPicPr>
        <p:blipFill>
          <a:blip r:embed="rId2"/>
          <a:stretch/>
        </p:blipFill>
        <p:spPr>
          <a:xfrm>
            <a:off x="1500120" y="1714680"/>
            <a:ext cx="6286680" cy="4435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Documents and Settings\Administrator\Desktop\vu.gif"/>
          <p:cNvPicPr/>
          <p:nvPr/>
        </p:nvPicPr>
        <p:blipFill>
          <a:blip r:embed="rId3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11:18:05Z</dcterms:created>
  <dc:creator>S.Yin</dc:creator>
  <dc:description/>
  <dc:language>en-US</dc:language>
  <cp:lastModifiedBy>User name placeholder</cp:lastModifiedBy>
  <dcterms:modified xsi:type="dcterms:W3CDTF">2007-04-06T09:23:31Z</dcterms:modified>
  <cp:revision>57</cp:revision>
  <dc:subject/>
  <dc:title>PANORAMA A Rich VRML Platform For Online Gaming</dc:title>
</cp:coreProperties>
</file>