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726-7706-4C8B-889A-65BDCBEF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8F3-4E15-4C6A-8414-56D56F88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CB3-A21A-456B-80F3-BD157F56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988-1E0D-4E40-8DC0-313AD129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AE1-8DF5-46BA-9F02-166A172E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8B4-4590-47CE-A715-46C2953B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9ED-6BB2-4550-9B62-359D182D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0E2-1006-4B86-AE6C-C2D71FA7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594-FB17-4A76-9946-E7C9C3D1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10A-9DD1-4656-92A5-02E5783A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521-95C3-4EE1-A0F9-EC12A414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D1F-D494-43D9-B186-45466642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87A-A8CB-4E1B-9CB7-C18D87F8C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6280" y="950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0840" y="57960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ssage 2.0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0240" y="2514600"/>
            <a:ext cx="8602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ou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term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election of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59400" y="5867280"/>
            <a:ext cx="71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thetic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our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514600"/>
            <a:ext cx="28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8720" y="327672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i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4440" y="4952880"/>
            <a:ext cx="22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5720" y="334476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3120" y="4572000"/>
            <a:ext cx="23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1480" y="6015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, viral(s), clips, casual game(s), message(s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00" y="685800"/>
            <a:ext cx="90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when I start talking about the aesthetics of our time, it is better to annou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8160" y="992160"/>
            <a:ext cx="87087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ideo gam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5480" y="5326200"/>
            <a:ext cx="82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play (G), exploration (E), simulation 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8-05-31T14:15:57Z</dcterms:modified>
  <cp:revision>8</cp:revision>
  <dc:subject/>
  <dc:title>Slide 1</dc:title>
</cp:coreProperties>
</file>