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38D-9B15-4267-8490-97DA8E22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A85-8209-4CAA-9FC8-4CCD5A95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EA0-25B2-4744-8B62-5B3D3AC6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9FF-083E-4720-B033-FB8A1ED1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A6A-7881-4F6E-93E4-CC88C7D9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913-1C03-4437-BBF8-F2939CB1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197-82B6-4707-AAD9-7C6EE37C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2C5-1E35-4BDA-8A8A-3F1E7392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9C0-CB39-4A8A-8454-0D6B73C4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389-FB60-4B3C-9EE6-C88BB08A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374-D357-407B-8A15-53CB2D7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7F8-C7FF-4633-B5E8-FF674D8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0693-31FA-490D-BE36-CECCD959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6400" y="13716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孫子兵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1:54:42Z</dcterms:created>
  <dc:creator>User name placeholder</dc:creator>
  <dc:description/>
  <dc:language>en-US</dc:language>
  <cp:lastModifiedBy>User name placeholder</cp:lastModifiedBy>
  <dcterms:modified xsi:type="dcterms:W3CDTF">2007-03-29T11:55:04Z</dcterms:modified>
  <cp:revision>1</cp:revision>
  <dc:subject/>
  <dc:title>Slide 1</dc:title>
</cp:coreProperties>
</file>