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AC5C-EDBA-4DE3-B8AD-0E061AD67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9CC9-527D-4A45-9296-6D1B2052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BE55-E70B-4F61-A07A-978045ED5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D4CB-E1E7-4998-B17A-82EA6A010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CCB2-73D7-4F9C-8487-24DC626B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808E-4E56-4A6A-9967-FE2D6CA5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D761-5CCE-413E-A52B-BEB00C08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658B-F638-4FDF-ABF3-95FDA5A3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CEE1-3090-4E92-9FEA-C978911B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132E-C5A0-4916-A7F8-08991CD5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D3FB-8A17-498E-82F3-22CF7F5F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4FCF-856F-46A1-8079-AAAAEE53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434C-CF32-495B-95DA-641243AD64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981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 agents are software agents which are designed for web applications, the environment is World Wide We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xonomy of 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600200"/>
            <a:ext cx="891540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men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D versus 3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 2D web agent is one which is aware of  http, file, and ftp protocols, whereas a 3D web agent is one which is aware of not only those protocols, but also virtual reality protoco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lient versus serve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s the names imply, a client web agent is on client side, whereas server web agent is on server sid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ngularity versus multiplic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s the names imply,  a single web agent would not consider the interface with other  web agents, whereas multiple web agents would interact on each othe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ttice of 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114300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259092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2590920"/>
            <a:ext cx="2057400" cy="5878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259092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2448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548640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75248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600200" y="1752480"/>
            <a:ext cx="266688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1752480"/>
            <a:ext cx="236232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46483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571640" y="4648320"/>
            <a:ext cx="259092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32004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32004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3200400"/>
            <a:ext cx="29718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495680" y="3276720"/>
            <a:ext cx="27432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676520" y="3200400"/>
            <a:ext cx="25905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200400"/>
            <a:ext cx="25146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4724280"/>
            <a:ext cx="27432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-Server-Multiple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143000"/>
            <a:ext cx="7696080" cy="2286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1219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Reality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1752480"/>
            <a:ext cx="175284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18288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2438280"/>
            <a:ext cx="1905120" cy="609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3600" y="2438280"/>
            <a:ext cx="1752480" cy="609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25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25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742840" y="21337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2133720"/>
            <a:ext cx="12952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95480" y="281952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962520"/>
            <a:ext cx="1905120" cy="8380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4038480"/>
            <a:ext cx="1904760" cy="838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4038480"/>
            <a:ext cx="1904760" cy="838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419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19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42670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48640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541008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19920" y="548640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4800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48769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34320" y="48769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600200" y="34290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191120" y="34286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58000" y="34286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9:06:09Z</dcterms:created>
  <dc:creator>Faculteit Wiskunde en Informatica</dc:creator>
  <dc:description/>
  <dc:language>en-US</dc:language>
  <cp:lastModifiedBy>Faculteit Wiskunde en Informatica</cp:lastModifiedBy>
  <dcterms:modified xsi:type="dcterms:W3CDTF">2001-09-20T09:46:47Z</dcterms:modified>
  <cp:revision>6</cp:revision>
  <dc:subject/>
  <dc:title>Web Agents</dc:title>
</cp:coreProperties>
</file>