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A4B4-104A-4616-8590-7550B945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91AB-68B1-4ABE-A625-36821FCD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D4A9-B6B3-4621-8124-D5C4B661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76BA-2919-495C-B9B2-88040137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DF77-A373-4478-B8A9-00EE86AB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D708-3D3B-402F-9F96-E29361B8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0AD0-2FA1-4E31-8E9B-1A0BC1EF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35D8-D3A6-48AC-BCB9-5FFA0094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2F5D-ADA8-44A6-A17F-A2424BA9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37EA-C3BA-48E9-828C-DD761D81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D2BE-7A81-43ED-A9F5-CABFBB18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204C-0BF1-4630-9694-98CDB537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C8CB-A562-4B31-BA04-1E8639C5D7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1: 3D Soccer Ag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70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45720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waspsoccer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soccer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 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lay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99172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all := new(ball(ball, 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1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2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UserMe := new(soccerPlayerUser(me_red10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9 := new(soccerPlayer(blue9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8 := new(soccerPlayer(blue8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7 := new(soccerPlayer(blue7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2 := new(soccerPlayer(red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3 := new(soccerPlayer(red3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11 := new(soccerPlayer(blue11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11 := new(soccerPlayer(red11,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waspsocc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itive model of soccer ga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ogmodel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4771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Specification in Agent’s Knowledge-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0512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-at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to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o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-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and-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ar-ball-then-k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68580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soccerPlayer : [common_process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ccerPlayer(Name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Name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Name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Activity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057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default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 the information of the current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419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how to react (find an intended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657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 the intended action ( do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952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57913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534520" y="213372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72200" y="21337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685800"/>
            <a:ext cx="80773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2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ball(Name,bal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Position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ball,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Xball,Y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ball,Dist,Xgoal,Zgoal,Dist1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Action,Name,ball,X,Y,Z,X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uitGame(Na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76320"/>
            <a:ext cx="9296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findHowtoReact(+Player,+Ball,+X,+Y,+Z,+Xball,+Yball,+Zball,+Distball,+Xgoal,+Zgoal,+Distgoal,-Act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=&l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&g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in =&lt;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 &gt;=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lt; FieldMin,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gt; FieldMax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_,_,_,_,_,_,_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33520"/>
            <a:ext cx="9144000" cy="70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_,_,_,X1,Y1,Z1,_,Xgoal,Zgoal,Dist1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_ball_to_position(Ball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goal,0.0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X1,Y1,Z1,_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CoTeammate(Player,X,Y,Z,Teamma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_,Z2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Passing(Player,Ball,X,Y,Z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ammate,X2,_,Z2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_X1,_Y1,_Z1,_Dist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and_trac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Player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ableDistance,run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unstep,runSleepTim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Soccer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nt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Decision Making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Agent Manag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Non-distributed Multiple Ag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gnitiv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: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tion Equ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438280"/>
            <a:ext cx="77724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y=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 - 1/2 * g*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=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ere &lt;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initial position of the soccer ba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velocity vector of the kick, and g be the constant accel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 in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914400"/>
            <a:ext cx="82296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edwithStaticStart(Ball,X0,Y0,Z0,Vx,Vy,Vz,BallSleepTime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total is Vy/4.9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: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Ball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’ is steps*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’ is X0+ Vx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’ is Y0+ Vy*T'-4.9*T'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’ is Z0+ Vz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Position(Ball,X',Y',Z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++step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&gt; Ttotal//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: Line-up Phenomen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1:  obtaining more information of players, and add more comput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suitable for real-time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2: Introducing Distributed behavioral models,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s, herds, and schools in artificial lif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intelligen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ulated Flock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aig Reynolds 198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ollision Avoidance: avoid collisions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Velocity Matching: attempt to match velocity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Flock Centering: attempt to stay close to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2: Dog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91668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gworl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14400"/>
            <a:ext cx="830592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Doggie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Bool  bark  FALS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Transform { translation IS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IS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og {whichChoice IS whichChoice id IS id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 minBack 10 intensity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rce AudioClip { loop IS bark url ["bark.wav"] }} 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children [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 Doggie {position 0.0 0.0 -10.0 whichChoice 0 id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2 Doggie {position -1.0 0.0 -15.0 whichChoice 0 id 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0 Doggie {position 5.0 0.0 -16.0 whichChoice 0 id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143000"/>
            <a:ext cx="76197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TERNPROTO Dog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["./dog.wrl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496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havio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8001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with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to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slowing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stop move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ok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 the master is to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r a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a dog, the dog moves  back to the m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228600"/>
            <a:ext cx="86868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world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./dog/dogworld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game_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 := new(dog(dog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2 := new(dog(dog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7 := new(dog(dog7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8 := new(dog(dog8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9 := new(dog(dog9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0:= new(dog(dog10, 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wor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Consid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7238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s:  Red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:  Goalkeeper,  SoccerPlayerAge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fe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52280"/>
            <a:ext cx="883944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time_lef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 := time_lef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_left :=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ame_clock_pulse(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is Time -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set_game_time(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228600"/>
            <a:ext cx="8991360" cy="66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leeptime = 25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mall_movement = 0.2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big_movement = 0.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enlargement = 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max_distance = 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g(Dog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Dog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Dog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 DogPosition, 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 MasterPosition2, MasterRotation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MasterRotation2, 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 MasterRotation2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80880"/>
            <a:ext cx="83818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Information(Dog,position(X,Y,Z),position(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2,Y2,Z2,R2),position(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4,Y4,Z4,R4)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Dog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Y2,Z2,R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4,Y4,Z4,R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position(X,_Y,Z),_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,Z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max_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with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 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look_at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look_at_master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2280"/>
            <a:ext cx="8534160" cy="70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_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ook_at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to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2,_Y2,Z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aster_standing,[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3 is X2 + Xd, Z3 is Z2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,Z3),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 position(X,Y,Z),position(X1,_Y1,Z1)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3,Z3)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with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dif is X3-X1, Zdif is Z3-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5,_Y5,Z5), master_moving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[position(X3,Y3,Z3),Xdif,Zdif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6 is X5 + Xd, Z6 is Z5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6,Z6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6,Y,Z6),1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and Distributive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705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 Cen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" y="152280"/>
            <a:ext cx="891540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standing, [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moving, [position(X1,Y,Z1), Xdif, Zdif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is X1 + X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 is Z1 + Z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,0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2,-1,-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3,1,-7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4,-2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5,2,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6,-3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7,3,-1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8,-4,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9,5,-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0,5,-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Time):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tru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fals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"/>
            <a:ext cx="8229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Continue to work on the previous unfinished assign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Improve the dog world example by adding more rules on the behavioral model, like the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near a dog, then the dog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jumps u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and turns slowly, then dog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e upside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2253960" cy="26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828800"/>
            <a:ext cx="7696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 your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une 26, 2006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ation of your system design.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10 minutes for each grou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field1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of Virtual Worl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5345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form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hap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 ImageTexture { u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field1.gif"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Transform TextureTransfor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scale 1 1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ometry Box {size 100 .2 6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Player Ava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to set the posi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ation: to set the rota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kname: to give a hint to the name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Choice: to indicate whether or not the avatar should appear in the virtual worlds, which would be convenient to add or delete any avatars from the sce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file: to set the clothes and the appearance of the avat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93680"/>
            <a:ext cx="8001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Sportman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String nick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MFString picturefil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......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EF goalKeeper1 Sportm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rotation 0 1 0 -1.57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chChoice 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 48 1.8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icturefile ["sportmanblue1.jpg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ickname "blue1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 ] 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les of Soccer Player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8305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keeper: An agent whose active area is around the goal gate of its te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: An autonomous agent plays one of the following role: forward, middle fielder, and defen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: An agent (more exactly, just an object), which  corresponds the activities of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2880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izing the behaviors of multiple play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re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Separate instruction stream sharing a common memory address sp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makes a program for which the parts of its code can be executed concurrentl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0:25:07Z</dcterms:created>
  <dc:creator>Faculteit Wiskunde en Informatica</dc:creator>
  <dc:description/>
  <dc:language>en-US</dc:language>
  <cp:lastModifiedBy>h</cp:lastModifiedBy>
  <dcterms:modified xsi:type="dcterms:W3CDTF">2006-06-11T10:14:28Z</dcterms:modified>
  <cp:revision>48</cp:revision>
  <dc:subject/>
  <dc:title>3D Soccer Agent</dc:title>
</cp:coreProperties>
</file>