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AEF3-B8FA-4FAC-9400-ED2F5D17F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69B7-5227-4403-9832-8501C9F01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29D3-DABF-4259-834C-2285172E3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C29A-CF76-41C8-A403-7988E6C87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1D09-FA0D-4F51-BD03-8A5B150E3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978D-17E0-4771-8452-D94805782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5D16-CBE3-4B36-93B7-A66E62D39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F1B0-4C02-4A28-97E8-8BD02CB25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EC79-3157-4CBA-AC89-F64CBF54A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B203-2697-4C70-9174-8547C8CD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C16C-9438-4342-BA58-8135D67F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D90E-29A3-43C1-9DC6-8F3013A4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72308-8AEF-4231-B894-790F3938C5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ts in the previous examp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2286000"/>
            <a:ext cx="83822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ts are just 3D objects in virtual wor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ts are not independent thre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agent architectu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…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t: Defini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600200"/>
            <a:ext cx="807732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agent is an entity which can be programmed to conduct complex behavi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t  is a piece of software which acts to accomplish tasks on behalf of its user [McGill, 1996]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agent is anything that can be viewed as perceiving its environment through sensors 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ng upon that environment through effectors [Russell and Norvig, 1995]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mple Reflex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2438280"/>
            <a:ext cx="4038480" cy="2895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1752480"/>
            <a:ext cx="5486400" cy="4343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1905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57600" y="2666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19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95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ff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81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s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638680" y="49525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2680" y="495288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962160" y="464832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cision-Making Ag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2438280"/>
            <a:ext cx="4038480" cy="2895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1752480"/>
            <a:ext cx="5486400" cy="4343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43200" y="1905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57600" y="2666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05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95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ff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81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s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638680" y="49525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352680" y="495288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19520" y="3276720"/>
            <a:ext cx="342900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95480" y="35053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cision-making Compon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5562720" y="419076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7672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cision Mak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447920" y="2514600"/>
            <a:ext cx="403848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447920" y="3733920"/>
            <a:ext cx="403848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71600" y="4191120"/>
            <a:ext cx="3962520" cy="198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86400" y="2057400"/>
            <a:ext cx="1676520" cy="838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86400" y="3276720"/>
            <a:ext cx="1828800" cy="838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86400" y="5791320"/>
            <a:ext cx="1905120" cy="7617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95680" y="4267080"/>
            <a:ext cx="0" cy="1143000"/>
          </a:xfrm>
          <a:prstGeom prst="line">
            <a:avLst/>
          </a:prstGeom>
          <a:ln w="76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4648320"/>
            <a:ext cx="0" cy="838080"/>
          </a:xfrm>
          <a:prstGeom prst="line">
            <a:avLst/>
          </a:prstGeom>
          <a:ln w="76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2971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on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0" y="3657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on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62320" y="4648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on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562720" y="2209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com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562720" y="3429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come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62720" y="5943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come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280" y="3352680"/>
            <a:ext cx="1295640" cy="1447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3581280"/>
            <a:ext cx="1371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r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t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28954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77120" y="41148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77120" y="5562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DI Ag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2438280"/>
            <a:ext cx="4038480" cy="3200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1752480"/>
            <a:ext cx="5486400" cy="4343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1905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1280" y="25146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952880"/>
            <a:ext cx="114300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29200" y="4952880"/>
            <a:ext cx="114300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19520" y="5029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ff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5029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s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638680" y="54864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52680" y="54864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19520" y="2971800"/>
            <a:ext cx="3504960" cy="1600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30481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DI Compon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3429000"/>
            <a:ext cx="1066680" cy="457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3886200"/>
            <a:ext cx="1066680" cy="457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3886200"/>
            <a:ext cx="1067040" cy="457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5053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39625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n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76920" y="38862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lief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38680" y="4572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52680" y="45720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elligent Agents: Main Feat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676520"/>
            <a:ext cx="8610840" cy="52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utonomy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e system should be able to act without the direct intervention of others and should have control over its own actions and internal st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sponsivenes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gents should perceive their environm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respond in a timely fashion to changes that occur in i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o-activi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gents should not simply act in response to their environment. They should be able to exhibit opportunistic, goal-directed behavior and make the initiative where appropri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ocialness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gents should be able to interact, when they deem appropriate, with other artificial agents and humans in order to complete their own problem solving and to help others with the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vit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t Technology</a:t>
            </a:r>
            <a:br>
              <a:rPr sz="4400"/>
            </a:b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Online Resour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1981080"/>
            <a:ext cx="7620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gent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agent.org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gentLinks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agentlink.org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8:14:13Z</dcterms:created>
  <dc:creator>Faculteit Wiskunde en Informatica</dc:creator>
  <dc:description/>
  <dc:language>en-US</dc:language>
  <cp:lastModifiedBy>huang</cp:lastModifiedBy>
  <dcterms:modified xsi:type="dcterms:W3CDTF">2003-10-06T15:48:25Z</dcterms:modified>
  <cp:revision>11</cp:revision>
  <dc:subject/>
  <dc:title>Agent</dc:title>
</cp:coreProperties>
</file>