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D123-C0EA-42DC-A74F-728F7CA10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5A9A-10AF-40D3-B240-60092243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7368-270A-4D00-B9C6-9A5DDC741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2DED-E00F-4E50-AF30-D8D37C14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40DD-B6BB-40C7-8756-2E016DCC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A830-A9D4-432D-8A0B-EE224955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2DD7-2C85-411C-A591-3B549CC5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1724-1370-4C85-8B78-E5502E1A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9122-1E2B-4DBE-941E-07879A4D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BB43-BF5E-4045-B238-59F1B331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68CB-16CA-4402-9BA5-B45BB9DA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8DD1-D509-437A-BA31-20282B27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AB4B-0091-435E-832F-1552490964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3schools.com/js/" TargetMode="Externa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Interface Design for DLP</a:t>
            </a:r>
            <a:br>
              <a:rPr sz="4400"/>
            </a:br>
            <a:r>
              <a:rPr b="0" i="1" lang="nl-NL" sz="4400" spc="-1" strike="noStrike">
                <a:solidFill>
                  <a:srgbClr val="ffff00"/>
                </a:solidFill>
                <a:latin typeface="Times New Roman"/>
              </a:rPr>
              <a:t>Javascripts Sup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tter  human-compuer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Easy to make the system se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hange the system parameters at the run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Javascript to 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447920"/>
            <a:ext cx="830556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listener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script, queue), _),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InitialValues(Object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speed, 0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engine_status, off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04920"/>
            <a:ext cx="9144000" cy="82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listener : 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jsilib, bcilib, busDriving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busDrivinglistener(Node,Queue):-run(Node, Queu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run(Node,Queue):- repea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queue(Node, Queue, 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stop, !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,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listen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457200"/>
            <a:ext cx="914400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Object, Change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field(Object, engine_status, Status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tatus = 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g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),%  get a global var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is Speed + Chang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&gt; 0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new), % set a global vari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new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_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Set parameters directly from Javascrip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828800"/>
            <a:ext cx="83059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engine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 (window.document.interfaceform.engine.value==“EngineOff” )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{…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bus1", "engine_status", "off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DLP to Javascrip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523880"/>
            <a:ext cx="914400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window(Window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call(Window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,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bject, 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Javascript ( busDriving_world.htm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(object, spe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interface.window.document.interfaceform.speed.value = speed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nge Parameters at the Run Ti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828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cond message queue i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068720" cy="2517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34290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35812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49528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781680" y="4572000"/>
            <a:ext cx="106704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6858000" y="3809520"/>
            <a:ext cx="129528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114440" y="52578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038120" y="38098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5486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266688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 time contro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ff, setRotation, speed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31760"/>
            <a:ext cx="9144000" cy="87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busDrivinglistener(script, queue), _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ew(busDrivinglistener(script, queue2), 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Javascript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(busDriving_interface.htm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 {window.parent.world.document.applets['dlpbrow'].set_queue("script"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"queue2",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term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engineProcess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){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(window.document.interfaceform.engine.value==“EngineOn” ){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term: engine(bus1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");......} 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urce C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523880"/>
            <a:ext cx="83059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ource codes of the bus driving with Javascript interface are available at the MMA2 websi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asp.cs.vu.nl/mma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905120"/>
            <a:ext cx="8153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*(Bonus).  Design a Bus  Race Game with Javascript interf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int: Combine the Bus-Driving-with-Javascript program with the Bus-Moving-along-Route progr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Example: Bus Driving with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9246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Use 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6477120" cy="4159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H="1" flipV="1">
            <a:off x="5334120" y="5562720"/>
            <a:ext cx="1828800" cy="304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019920" y="2133720"/>
            <a:ext cx="13716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1905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33520"/>
            <a:ext cx="914400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title&gt;Bus Driving Example (with Javascript Interface)&lt;/titl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set frameborder=1 rows="80%,20%,*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world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world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0 scrolling=no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interface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1 scrolling=yes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frames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DLP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066680"/>
            <a:ext cx="845820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S method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(Java script -&gt; DL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ar applet = window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ocument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s['dlpbrow'];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queue("namespace", "queuename", term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o set a message on a message queue on a DLP progra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field( "namespace", "fieldname", atomic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get a value of a global variable  on a DLP 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field( "namespace", "fieldname", term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set a value of a global variable on a  DLP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methods (objec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sili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 (DLP -&gt; Javascrip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window( -JSObject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( +JSObject, +JSFunctionName, +ArgList, -FunctionResult )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world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990720"/>
            <a:ext cx="8534520" cy="51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......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embed src="./../vrml/street/street5d.wrl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applet codebase="./classes" archive="dlpsys.jar" code="dlpbrow.class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id="dlpbrow" name="dlpbrow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width=0 height=0 MAY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param name="object" value=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jsi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interface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295280"/>
            <a:ext cx="861048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 ... 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orm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fo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engin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Value="Engine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Click="engineProcess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gas"   Value="Gas" onClick="gasProcess()"&gt;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turnleft" VALUE="TurnLeft"  onClick="turnLeft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: &lt;INPUT TYPE="text" NAME="speed" VALUE="0"&gt; ...... &lt;/form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Online Javascript Tutori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320040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w3schools.com/js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s.brown.edu/courses/bridge/1998/res/javascript/javascript-tutorial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ving_interface.htm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289160"/>
            <a:ext cx="876312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&lt;script&gt; 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world.document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queue("script", "queue", te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gas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var gaschange = 2.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appletQueue(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term: speedChange(bus1," + gaschange + ")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08:18:54Z</dcterms:created>
  <dc:creator> h</dc:creator>
  <dc:description/>
  <dc:language>en-US</dc:language>
  <cp:lastModifiedBy>h</cp:lastModifiedBy>
  <dcterms:modified xsi:type="dcterms:W3CDTF">2006-06-18T11:50:50Z</dcterms:modified>
  <cp:revision>16</cp:revision>
  <dc:subject/>
  <dc:title>Interface Design for DLP Javascripts Support</dc:title>
</cp:coreProperties>
</file>