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8732-E2B7-430F-8F62-82A1DC03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DA56-B3B8-44A2-8A0E-9E885AF8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A351-B128-4C09-B997-C2B78A7F7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361C-1C8E-4E22-B80B-2A10CA157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859D-25F3-4EEC-B309-8B120BFA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5E31-D9ED-44E8-A0C5-14C844CE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2673-C5D3-46BC-AF14-D4F44E17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E65A-F8C8-4A02-8EA8-282BA9E1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651C-84C3-4846-BDB9-4E9A00C7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B968-F649-4774-8486-2792C35D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9D68-B7CC-4C1C-AB9D-B5CCEA21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B93A-CCB0-4362-91A1-21CD1894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FD71-FB2F-46A7-9998-DCBAD97D61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 agents are software agents which are designed for web applications, the environment is World Wide We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xonomy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600200"/>
            <a:ext cx="891540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versus 3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 2D web agent is one which is aware of  http, file, and ftp protocols, whereas a 3D web agent is one which is aware of not only those protocols, but also virtual reality protoco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ent versus serv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s the names imply, a client web agent is on client side, whereas server web agent is on server sid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ngularity versus multiplic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s the names imply,  a single web agent would not consider the interface with other  web agents, whereas multiple web agents would interact on each othe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tice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1430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590920"/>
            <a:ext cx="2057400" cy="587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54864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7524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600200" y="1752480"/>
            <a:ext cx="26668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1752480"/>
            <a:ext cx="23623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4648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571640" y="4648320"/>
            <a:ext cx="25909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3200400"/>
            <a:ext cx="2971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495680" y="3276720"/>
            <a:ext cx="27432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676520" y="3200400"/>
            <a:ext cx="25905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200400"/>
            <a:ext cx="25146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4724280"/>
            <a:ext cx="27432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-Server-Multiple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143000"/>
            <a:ext cx="7696080" cy="2286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Real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1752480"/>
            <a:ext cx="175284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1828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2438280"/>
            <a:ext cx="190512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2438280"/>
            <a:ext cx="175248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742840" y="21337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2133720"/>
            <a:ext cx="1295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28195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962520"/>
            <a:ext cx="19051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4267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41008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800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4876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3429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19112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5800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9:06:09Z</dcterms:created>
  <dc:creator>Faculteit Wiskunde en Informatica</dc:creator>
  <dc:description/>
  <dc:language>en-US</dc:language>
  <cp:lastModifiedBy>Faculteit Wiskunde en Informatica</cp:lastModifiedBy>
  <dcterms:modified xsi:type="dcterms:W3CDTF">2001-09-20T09:46:47Z</dcterms:modified>
  <cp:revision>6</cp:revision>
  <dc:subject/>
  <dc:title>Web Agents</dc:title>
</cp:coreProperties>
</file>