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56C6-A706-4B89-BB88-6E02CDF85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92CD-0A26-4F38-B40C-53372819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FFAC-2043-4A15-BCFF-D1D66F9DE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3E04-41C9-474B-9839-1D25E28E3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6D6E-119D-43A6-BC88-3EED0B68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CBB9-947F-4896-B4D6-EDCF914D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3218-965C-4C4D-BCF2-C33DE368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9E86-E403-4949-A250-E083DCFD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1F16-F9A8-44C1-9922-9A63FC19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86BA-EA2F-47CD-B154-95B24BEC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D0F3-42A9-4241-A18E-F59D2418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4EEF-2588-4E38-8EE0-9EB05542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9224-EF88-4316-8C1D-0AFBFEF930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981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 agents are software agents which are designed for web applications, the environment is World Wide We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xonomy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600200"/>
            <a:ext cx="891540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men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D versus 3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 2D web agent is one which is aware of  http, file, and ftp protocols, whereas a 3D web agent is one which is aware of not only those protocols, but also virtual reality protoco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ient versus serv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s the names imply, a client web agent is on client side, whereas server web agent is on server sid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ngularity versus multiplic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s the names imply,  a single web agent would not consider the interface with other  web agents, whereas multiple web agents would interact on each othe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ttice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1430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2590920"/>
            <a:ext cx="2057400" cy="5878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2448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54864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7524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600200" y="1752480"/>
            <a:ext cx="266688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1752480"/>
            <a:ext cx="236232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46483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571640" y="4648320"/>
            <a:ext cx="25909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3200400"/>
            <a:ext cx="29718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495680" y="3276720"/>
            <a:ext cx="27432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676520" y="3200400"/>
            <a:ext cx="25905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200400"/>
            <a:ext cx="25146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4724280"/>
            <a:ext cx="27432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-Server-Multiple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143000"/>
            <a:ext cx="7696080" cy="2286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1219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Real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1752480"/>
            <a:ext cx="175284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18288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2438280"/>
            <a:ext cx="190512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2438280"/>
            <a:ext cx="175248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742840" y="21337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2133720"/>
            <a:ext cx="12952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281952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962520"/>
            <a:ext cx="1905120" cy="8380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4267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541008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4800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48769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00200" y="34290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19112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5800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9:06:09Z</dcterms:created>
  <dc:creator>Faculteit Wiskunde en Informatica</dc:creator>
  <dc:description/>
  <dc:language>en-US</dc:language>
  <cp:lastModifiedBy>Faculteit Wiskunde en Informatica</cp:lastModifiedBy>
  <dcterms:modified xsi:type="dcterms:W3CDTF">2001-09-20T09:46:47Z</dcterms:modified>
  <cp:revision>6</cp:revision>
  <dc:subject/>
  <dc:title>Web Agents</dc:title>
</cp:coreProperties>
</file>