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4867F-BFFE-4E3F-BB27-2CCA14507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5BB05-F118-4442-A33D-8F5AAF973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EF76D-6594-4BD2-B04A-BA60B4882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C8164-576D-4E4B-BF6C-9CF31B259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0B2DF-CD26-4C9A-ADE2-6B2837BBA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46BA6-22D0-455B-8D68-D8C5ADFDE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28C7A-C690-4DAC-975C-97B6FD9A3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CD00D-7A8E-4090-AC46-2562CE9D5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A9AEA-81E7-4EEC-9D24-E7DAECD4F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5F1BF-6951-40B7-8EC7-1D78530F2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CA165-A45A-44FC-B452-73990EFFC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E636B-A5D7-4D0B-BD9B-9207629B3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29916-61D1-416A-A44A-11E5DC33AD6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ultimedia Authoring II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33520" y="1676520"/>
            <a:ext cx="8229600" cy="41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gic Programming Langu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bject-oriented Logic Programming Language and DL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LP for VRML-based Virtual Environm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gent, Web Agent, 3D Web Agent:  notions and implement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vatar Design and Contro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EP: a scripting language for Embodied Ag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urther Topic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371600"/>
            <a:ext cx="8153640" cy="56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irtual Communities and Agent-based virtual communit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ML-based Multimedia Technology: X3D, SMIL, XSTE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mbodied Conversational Agents: Facial animation and emotion model,  TTS (text to speech technology), gesture and sign langu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mulation of 3D Self-organizing systems and artificial lif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D Virtual environments for E-commer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D agents for education: 3D models for soccer train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D agents for entertainment and gam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…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inal Assignment: 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resentation of System Design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June 26, 2006 (Monday) S111 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2362320"/>
            <a:ext cx="9144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1.10-11.20 Group 1: Tom Bestebreurtje and T.V. Burg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1.20-11.30 Group 2: WW Boer and  Sjaak Wout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1.30-11.40 Group 3: Jesper Hoeksema, Berend Weel,  and NC Vijlbrie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1.40-11.50 Group 4: NGM Moel  and EFP Viss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1.50-12.00 Group 5: A.E. van der Ende and Leendert Ullersm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2.00-12.10 Group 6: Bouterse, MC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2.10-12.20 Group 7: Wouter Broekhof and S. Y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2.20-12.30 Group 8: Steve Stomp and D. Zulkarna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ach group has 6 minutes for the presentation, and 4 minutes for questions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inal Assignmen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066680" y="1471680"/>
            <a:ext cx="670572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gress report:  email to huang@cs.vu.n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ugust  30, 2006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adline:  email to huang@cs.vu.n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ptember 30, 200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por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urce cod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xecutable Progra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 Guideline for MMA2 Repor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752480"/>
            <a:ext cx="8077320" cy="54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itle, Names,  Emails, Student IDs, Project Web Si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trodu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ystem desig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echnical descrip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er manu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scussion and future wor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ferenc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nline Resources (1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848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RM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Floppy's VRML97 Tutor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The Annotated VRML 97 Refere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ISO: VRML97 Specif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VRML 2.0 EAI FA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lo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SWI PROLO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Prolog Tutor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nline Resources (2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33520" y="1600200"/>
            <a:ext cx="79246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thematics of 3D Graphic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Vector Math for 3D Computer Graphic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3D Coding BlackHo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gent Technolog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The Agent Home P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The AgentLinks Home P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vat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H-anim: Specification for a Standard Humano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Avatar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Cywor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nline Resources (3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212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irtual Commun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Blaxxun Community 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Active Worl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eb3D Art and Ga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Web 3D A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VRML gam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avascrip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JavaScript Tutor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EchoEcho: JavaScript Tutor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JavaScript Quick Referenc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1T10:47:55Z</dcterms:created>
  <dc:creator>Faculteit Wiskunde en Informatica</dc:creator>
  <dc:description/>
  <dc:language>en-US</dc:language>
  <cp:lastModifiedBy>h</cp:lastModifiedBy>
  <dcterms:modified xsi:type="dcterms:W3CDTF">2006-06-18T09:54:25Z</dcterms:modified>
  <cp:revision>46</cp:revision>
  <dc:subject/>
  <dc:title>DLP for Virtual Communities</dc:title>
</cp:coreProperties>
</file>