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png" ContentType="image/png"/>
  <Override PartName="/ppt/media/image3.jpeg" ContentType="image/jpe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4DB4D-BDB7-45D9-95AE-9BDF63081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34388-361A-4392-AE80-78B2CE164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43144-0BFE-4B75-AAB9-3A44D39CF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D768D-AA09-4785-BF21-8B49950AC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DDAFC-EDDA-458A-ADD8-F830B4AD0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6409A-563E-457D-B159-4E8509FF1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A9014-270B-4872-B687-1F4D61863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03619-45DE-455F-B166-B3DE684D2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741C4-0D6F-4A33-87DB-46646E3BD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FB52A-6DBB-437E-9837-41C5DC2D4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F26D2-BFFD-42F4-9D8D-BF0EAD35A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2B026-EF8D-485F-8448-EF5EABAFD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26706-0433-4500-91D4-24EB86E3166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asp.cs.vu.nl/mma2/" TargetMode="External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ultimedia Authoring II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1371600"/>
            <a:ext cx="6400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Lecture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Zhisheng Hua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nton Elie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Teaching Assistant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Winoe Bhikhari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rik Kruithof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DLP Technical Support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ees Viss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imes New Roman"/>
                <a:hlinkClick r:id="rId1"/>
              </a:rPr>
              <a:t>http://wasp.cs.vu.nl/mma2/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Schedule: 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actical Work and Exercise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6400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ursday 15.30-17.3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mputer Lab  S353 (S345), Week 19-20,23-2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se Internet Explorer for VRML Browser (Blaxxu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LP works under Microsoft Java Virtual Machin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Do not </a:t>
            </a:r>
            <a:r>
              <a:rPr b="0" i="1" lang="nl-NL" sz="2800" spc="-1" strike="noStrike">
                <a:solidFill>
                  <a:srgbClr val="ffffff"/>
                </a:solidFill>
                <a:latin typeface="Times New Roman"/>
              </a:rPr>
              <a:t>use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Netscape and Firefox  which rely on Sun Java Virtual Machine to run DLP compiled Java applet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6988320" y="2666880"/>
            <a:ext cx="215568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inal Assignmen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ointly work on a project in teams of two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gister your team to  huang@cs.vu.n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fore Week 2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port your system design in Week 2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bmit your work  before Sept. 30, 2006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467240" y="4248000"/>
            <a:ext cx="4676760" cy="26100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2120760" y="4267080"/>
            <a:ext cx="238788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yllabus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2514600" y="1828800"/>
            <a:ext cx="3830760" cy="47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chedule: Project Present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280" y="1600200"/>
            <a:ext cx="64771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udent Presentation: System Desig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 Week 2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3352680" y="3429000"/>
            <a:ext cx="57913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inal Gra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678168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0% from  the weekly exercis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80% from the final proje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3962520"/>
            <a:ext cx="914400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685800"/>
            <a:ext cx="853452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MA2 public website: http://wasp.cs.vu.nl/mma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LP website: http://www.cs.vu.nl/~eliens/projects/logic/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dex.htm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MA2 website at the blackboar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ttp://bb.vu.n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emonstr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837720" y="914400"/>
            <a:ext cx="85345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nl-NL" sz="2800" spc="-1" strike="noStrike">
                <a:solidFill>
                  <a:srgbClr val="ffffff"/>
                </a:solidFill>
                <a:latin typeface="Times New Roman"/>
              </a:rPr>
              <a:t>Student project (2002): Wayou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nl-NL" sz="2800" spc="-1" strike="noStrike">
                <a:solidFill>
                  <a:srgbClr val="ffffff"/>
                </a:solidFill>
                <a:latin typeface="Times New Roman"/>
              </a:rPr>
              <a:t>Jasper Soetendal and Liou Yamane</a:t>
            </a:r>
            <a:r>
              <a:rPr b="1" lang="nl-NL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tudent Project (2003): Amazing Labyrint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Tim Verweij and Pascal Snijders Blok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tudent Project (2004):  S.C.U.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Winoe Bhikharie  and  KH Cheng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amela: A 3D web ag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TEP authoring too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ASP Soccer G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ayout</a:t>
            </a:r>
            <a:br>
              <a:rPr sz="4400"/>
            </a:b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Jasper Soetendal and Liou Yamane, 2002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7543800" cy="45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Amazing Labyrinth</a:t>
            </a:r>
            <a:br>
              <a:rPr sz="4000"/>
            </a:b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Tim Verweij and Pascal Snijders Blok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, 2003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1905120"/>
            <a:ext cx="8766360" cy="47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S.C.U.M</a:t>
            </a:r>
            <a:br>
              <a:rPr sz="4000"/>
            </a:b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Winoe Bhikharie  and  KH Cheng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, 2004</a:t>
            </a:r>
            <a:br>
              <a:rPr sz="4000"/>
            </a:b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28600" y="2378160"/>
            <a:ext cx="8596440" cy="447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ultimedia Authoring I: VRM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dvantag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D Sce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b-Bas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ross Platfor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ultimedia Suppor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xt-based fi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VRML: Expected Extens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fficient Behavior Control: VRML+JAV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ulti Users Support: VRML+JAV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venience in Navigation: VRML+JAVA+PROLOG,  for navigation assista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elligent </a:t>
            </a: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virtual agent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: VRML+JAVA+PROLO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unctions and Approach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682560" y="2019240"/>
          <a:ext cx="7747200" cy="4392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2560" y="2019240"/>
                    <a:ext cx="7747200" cy="4392720"/>
                  </a:xfrm>
                  <a:prstGeom prst="rect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istributed Logic Programming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LP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RML+JAVA+PROLOG = DLP+VRM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hy DLP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819520" y="1905120"/>
            <a:ext cx="609588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bject-oriented parallel prolo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b3D suppor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CP/IP support for network  communic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ava-based. All DLP programs are compiled into java clas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fficiency for  programm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asonably good performa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52280" y="2590920"/>
            <a:ext cx="2517840" cy="30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533520" y="380880"/>
            <a:ext cx="792468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TEP: a scripting language for embodied agents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0" y="3886200"/>
            <a:ext cx="39625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ripting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hnology for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bodied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rson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ttp://wasp.cs.vu.nl/ste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7" name="yt-step01" descr=""/>
          <p:cNvPicPr/>
          <p:nvPr/>
        </p:nvPicPr>
        <p:blipFill>
          <a:blip r:embed="rId1"/>
          <a:stretch/>
        </p:blipFill>
        <p:spPr>
          <a:xfrm>
            <a:off x="762120" y="2819520"/>
            <a:ext cx="380988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ACT : </a:t>
            </a:r>
            <a:r>
              <a:rPr b="0" i="1" lang="en-US" sz="4400" spc="-1" strike="noStrike">
                <a:solidFill>
                  <a:srgbClr val="ffff00"/>
                </a:solidFill>
                <a:latin typeface="Times New Roman"/>
              </a:rPr>
              <a:t>STEP Source Code (1.0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33520" y="1676520"/>
            <a:ext cx="8001000" cy="48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chedule: Lectur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nday, 11.00-12.45, Room S111, Week 18-21,24-2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roduction and Demonstration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LOG and DLP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LP for Virtual Environment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gent, Web Agent, 3D Web Ag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vatar Design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and Contro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TEP: a scripting language for 3D ag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03T11:28:58Z</dcterms:created>
  <dc:creator>Faculteit Wiskunde en Informatica</dc:creator>
  <dc:description/>
  <dc:language>en-US</dc:language>
  <cp:lastModifiedBy> huang</cp:lastModifiedBy>
  <dcterms:modified xsi:type="dcterms:W3CDTF">2006-04-30T16:42:29Z</dcterms:modified>
  <cp:revision>41</cp:revision>
  <dc:subject/>
  <dc:title>Multimedia Authoring II</dc:title>
</cp:coreProperties>
</file>