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C9EA-6BDA-43A3-B84B-C7A1F2640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C9C5-993A-4EC8-B1FF-AF27EA18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1584-F583-4508-B35C-CA0CA8A18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34EA-88E5-4A89-B3DE-1E7189B87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822A-7BDA-476B-88F0-B0A66878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78B3-8B4C-4BA0-AE72-69E39D9D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8ACE-D7FF-455F-898C-C0705D5C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837F-C8F5-4A15-8FDF-5A9512B8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63FB-E42C-465A-B1BD-0564A8FF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152B-40B9-4943-9F20-E9E79268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0AC7-A900-453D-A9FD-81D82119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380B-5F25-4C43-812B-60A59B8B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C223-F43B-4291-BD51-F7BF2B9287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676520"/>
            <a:ext cx="82296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gic Programming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-oriented Logic Programming Language and 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for VRML-based Virtual Enviro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, Web Agent, 3D Web Agent:  notions and 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 Design and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: a scripting language for Embodied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rther Top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371600"/>
            <a:ext cx="815364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ies and Agent-based virtual commun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ML-based Multimedia Technology: X3D, SMIL, X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bodied Conversational Agents: Facial animation and emotion model,  TTS (text to speech technology), gesture and sign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ulation of 3D Self-organizing systems and artificial li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Virtual environments for E-comme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ducation: 3D models for soccer trai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ntertainment and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: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sentation of System Desig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June 26, 2006 (Monday) S111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36232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10-11.20 Group 1: Tom Bestebreurtje and T.V. Bu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20-11.30 Group 2: WW Boer and  Sjaak Wou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30-11.40 Group 3: Jesper Hoeksema, Berend Weel,  and NC Vijlbrie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40-11.50 Group 4: NGM Moel  and EFP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50-12.00 Group 5: A.E. van der Ende and Leendert Ullers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00-12.10 Group 6: Bouterse, M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10-12.20 Group 7: Wouter Broekhof and S. Y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20-12.30 Group 8: Steve Stomp and D. Zulkarn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group has 6 minutes for the presentation, and 4 minutes for ques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471680"/>
            <a:ext cx="6705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ess report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gust  30, 200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adline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ptember 30,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r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 c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cutable Progr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Guideline for MMA2 Re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752480"/>
            <a:ext cx="80773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, Names,  Emails, Student IDs, Project Web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ical descri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an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ussion and future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Floppy's VRML97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nnotated VRML 97 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ISO: VRML97 Spec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2.0 EAI FA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SWI 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Prolog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60020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hematics of 3D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ector Math for 3D Computer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3D Coding BlackH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 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H-anim: Specification for a Standard Human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vata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Cywor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3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Blaxxun Commun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ctive Worl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3D Art and G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Web 3D 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EchoEcho: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Quick Referen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1T10:47:55Z</dcterms:created>
  <dc:creator>Faculteit Wiskunde en Informatica</dc:creator>
  <dc:description/>
  <dc:language>en-US</dc:language>
  <cp:lastModifiedBy>h</cp:lastModifiedBy>
  <dcterms:modified xsi:type="dcterms:W3CDTF">2006-06-18T09:54:25Z</dcterms:modified>
  <cp:revision>46</cp:revision>
  <dc:subject/>
  <dc:title>DLP for Virtual Communities</dc:title>
</cp:coreProperties>
</file>