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1B4E-3CEC-4732-B743-DAF7028DF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108C-588B-4638-B6F5-9ACD0441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7487-ADD8-41B3-8F2D-EE8246700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7C4A-0A03-4820-8449-3255E620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3C0E-B569-4382-8651-85A6D501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9742-2B15-4F97-AD31-C22C0FF7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DF60-4D79-4067-A2FA-EDF823E1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1FCF-D4D4-4303-989A-871955BD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4C49-1DDC-4F05-BC03-898E823B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AD20-644F-4108-BAB2-43B6ADB1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2159-8536-4CA6-8554-58685CB6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CCAE-09AC-4538-9BCA-346CCD9B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3428-9E48-48F3-A384-3E87FBA1CB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s in the previous 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286000"/>
            <a:ext cx="83822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just 3D objec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not independent thre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gent architect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: 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0773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 entity which can be programmed to conduct complex behav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  is a piece of software which acts to accomplish tasks on behalf of its user [McGill, 1996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ything that can be viewed as perceiving its environment through sensors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ng upon that environment through effectors [Russell and Norvig, 1995]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ple Reflex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962160" y="4648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-Making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3276720"/>
            <a:ext cx="34290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3505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cision-making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562720" y="4190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 Ma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447920" y="2514600"/>
            <a:ext cx="40384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447920" y="3733920"/>
            <a:ext cx="40384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4191120"/>
            <a:ext cx="3962520" cy="19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2057400"/>
            <a:ext cx="167652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276720"/>
            <a:ext cx="182880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5791320"/>
            <a:ext cx="190512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267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4648320"/>
            <a:ext cx="0" cy="83808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657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943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3352680"/>
            <a:ext cx="1295640" cy="1447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581280"/>
            <a:ext cx="1371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28954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5562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DI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438280"/>
            <a:ext cx="4038480" cy="3200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514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638680" y="54864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5486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2971800"/>
            <a:ext cx="3504960" cy="1600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0481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DI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4290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38862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3886200"/>
            <a:ext cx="106704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5053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3886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ie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38680" y="4572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4572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lligent Agents: Main Fea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610840" cy="52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utonomy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system should be able to act without the direct intervention of others and should have control over its own actions and internal 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sponsivene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perceive their environ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respond in a timely fashion to changes that occur in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-activ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not simply act in response to their environment. They should be able to exhibit opportunistic, goal-directed behavior and make the initiative where appropri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cialnes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ents should be able to interact, when they deem appropriate, with other artificial agents and humans in order to complete their own problem solving and to help others with the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 Technology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nline Resour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981080"/>
            <a:ext cx="7620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link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8:14:13Z</dcterms:created>
  <dc:creator>Faculteit Wiskunde en Informatica</dc:creator>
  <dc:description/>
  <dc:language>en-US</dc:language>
  <cp:lastModifiedBy>huang</cp:lastModifiedBy>
  <dcterms:modified xsi:type="dcterms:W3CDTF">2003-10-06T15:48:25Z</dcterms:modified>
  <cp:revision>11</cp:revision>
  <dc:subject/>
  <dc:title>Agent</dc:title>
</cp:coreProperties>
</file>