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74FB-CCB6-4B18-AC04-907BA0773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54D3-37E3-4589-A29B-29B70A4D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8F0D-C694-4E4A-85EE-0F59DC114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8937-2FC7-44F1-84DE-093FD4584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1CD8-D7C1-4198-8B19-8A835D07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ED77-C544-4D71-927A-E0795D86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5C1E-57B1-4DF0-BCC5-39895752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241F-C95C-4B51-9A68-1C05709D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D58D-D2AF-4A09-95DE-CD72E710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935A-6422-4CF4-85FB-5D707DA8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4D60-2418-46F7-8D9B-E3F990B0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A834-08C2-4F5C-9AAE-49B9D081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A642-6379-4997-BF06-80EE8FDFDA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s in the previous examp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2286000"/>
            <a:ext cx="83822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s are just 3D objects in virtual wor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s are not independent thre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gent architect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: Defini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600200"/>
            <a:ext cx="80773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gent is an entity which can be programmed to conduct complex behavi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  is a piece of software which acts to accomplish tasks on behalf of its user [McGill, 1996]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gent is anything that can be viewed as perceiving its environment through sensors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ng upon that environment through effectors [Russell and Norvig, 1995]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mple Reflex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2438280"/>
            <a:ext cx="4038480" cy="289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638680" y="49525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49528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962160" y="46483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ision-Making Ag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438280"/>
            <a:ext cx="4038480" cy="289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638680" y="49525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49528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19520" y="3276720"/>
            <a:ext cx="34290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95480" y="35053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cision-making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562720" y="41907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ision Mak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447920" y="2514600"/>
            <a:ext cx="403848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447920" y="3733920"/>
            <a:ext cx="40384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4191120"/>
            <a:ext cx="3962520" cy="19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2057400"/>
            <a:ext cx="1676520" cy="83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3276720"/>
            <a:ext cx="1828800" cy="83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5791320"/>
            <a:ext cx="1905120" cy="7617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4267080"/>
            <a:ext cx="0" cy="114300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4648320"/>
            <a:ext cx="0" cy="83808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3657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4648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62720" y="2209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3429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5943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3352680"/>
            <a:ext cx="1295640" cy="1447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3581280"/>
            <a:ext cx="1371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28954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41148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5562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DI Ag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2438280"/>
            <a:ext cx="4038480" cy="3200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25146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952880"/>
            <a:ext cx="11430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29200" y="4952880"/>
            <a:ext cx="11430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502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502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638680" y="54864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5486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2971800"/>
            <a:ext cx="3504960" cy="1600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30481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DI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3429000"/>
            <a:ext cx="106668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3886200"/>
            <a:ext cx="106668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3886200"/>
            <a:ext cx="106704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5053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3962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n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3886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lie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38680" y="4572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45720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lligent Agents: Main Fea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676520"/>
            <a:ext cx="8610840" cy="52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utonomy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system should be able to act without the direct intervention of others and should have control over its own actions and internal st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sponsivenes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gents should perceive their environ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respond in a timely fashion to changes that occur in 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-activ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gents should not simply act in response to their environment. They should be able to exhibit opportunistic, goal-directed behavior and make the initiative where appropri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ocialnes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gents should be able to interact, when they deem appropriate, with other artificial agents and humans in order to complete their own problem solving and to help others with the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i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 Technology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Online Resour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1981080"/>
            <a:ext cx="7620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gent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gent.or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gentLinks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gentlink.or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8:14:13Z</dcterms:created>
  <dc:creator>Faculteit Wiskunde en Informatica</dc:creator>
  <dc:description/>
  <dc:language>en-US</dc:language>
  <cp:lastModifiedBy>huang</cp:lastModifiedBy>
  <dcterms:modified xsi:type="dcterms:W3CDTF">2003-10-06T15:48:25Z</dcterms:modified>
  <cp:revision>11</cp:revision>
  <dc:subject/>
  <dc:title>Agent</dc:title>
</cp:coreProperties>
</file>