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56D3-51CD-4552-9ACC-20E703A79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5890-EA5B-416B-80CC-7DF8EB586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6889-8260-4ED8-96A7-6FB732659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4DE1-79D0-4CE3-A172-DC7935C68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A06E-53FD-40CB-B45C-FE01247E5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74E5-581B-4806-A0AA-23FCF7E37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6FA8-4CE4-49FC-80AD-9702A3015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488D-10A4-47DE-9E4E-F3615CA42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370E-32B3-44A7-BAA1-E13BD3AEB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75D2-1AF5-4CF3-B29F-E844A9233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9FE8-F766-4140-AEEA-04ED25B1D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797A-0E37-4559-8F35-ECC63CF31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71E8A-83EE-4F46-9B13-8E4810249F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for Virtual Environments (I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1600200"/>
            <a:ext cx="678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RML EAI (External Authoring Interfac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eai_diagram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6324840" cy="29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aunch DLP Objects from Web Browser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1752480"/>
            <a:ext cx="7620120" cy="51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html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body bgcolor=white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embed src=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"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./../vrml/root.wrl" width="100%" height="100%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applet codebase="./classes"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archive="dlpsys.jar"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code="</a:t>
            </a:r>
            <a:r>
              <a:rPr b="1" lang="en-US" sz="2000" spc="-1" strike="noStrike">
                <a:solidFill>
                  <a:srgbClr val="00ffff"/>
                </a:solidFill>
                <a:latin typeface="Courier New"/>
              </a:rPr>
              <a:t>dlpbrow.class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"  width=600 height=300 MAYSCRIPT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param name="mayscript" value="true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param name="cols" value="60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param name="rows" value="10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param name="object" value=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"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dlp-example1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/applet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/body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&lt;/html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Moving Title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447920" y="2052720"/>
            <a:ext cx="6629400" cy="43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152280"/>
            <a:ext cx="8077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sign 3D Objec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295280"/>
            <a:ext cx="914400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VRML V2.0 utf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myViewpoint Viewpoint {position 0 3 60 orientation 0 1 0 0}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 translation 0 3 0 rotation 1 0 0 1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Transform {translation 0 0 0 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 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ure ImageTextur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{ url "star1.jpg" repeatS TRUE repeatT TRUE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ureTransform TextureTransform {scale 30 10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diffuseColor 0.0 0.0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missiveColor 1.0 1.0 1.0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ometry Cylinder { height 2000 radius 2.5 top TRUE bottom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ALSE}} 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04920" y="4876920"/>
            <a:ext cx="4038480" cy="1981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343400" y="487692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04920" y="685800"/>
            <a:ext cx="815328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translation -2 3 50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cale 0.3 0.3 0.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diffuseColor 1 1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missiveColor 1 0 0}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 { string "Intelligent Multimedia Technology" }]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translation -2 3 30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cale 0.3 0.3 0.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diffuseColor 1 1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missiveColor 1 0 0}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 { string "Distributed Logic Programming" }]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…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ound {minFront 1000 minBack 1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ntensity 20 source AudioClip { loop TR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url ["mozart38.wav"]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Program: Moving Title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990720"/>
            <a:ext cx="8915400" cy="63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titlemove0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count = 30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increment = 0.1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='./title/title0.wrl'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%note that the path is relative to ‘root.wrl’ in the html fi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 :- text_area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3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count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):- N1 is N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myViewpoint,position, 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new is Z - incr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Vec3f(myViewpoint, position,X,Y,Znew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150), move_title(N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titlemove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Moving Title (1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6324480" cy="422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981080" y="5410080"/>
            <a:ext cx="6172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viewpoint’s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istance between the viewpoint and the title is stab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57200" y="1143000"/>
            <a:ext cx="8229600" cy="28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EF titl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Transform {translation -2 3 50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cale 0.3 0.3 0.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diffuseColor 1 1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missiveColor 1 0 0}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 { string ”Multimedia Authoring II: Flying Title" }]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921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Program: Moving Title (1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914400"/>
            <a:ext cx="7772400" cy="63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titlemove1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count = 30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increment = 0.1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='./title/title0.wrl'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var distance = 5.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 :- text_area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3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count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):- N1 is N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SFVec3f(title, translation, Xt,Yt,_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myViewpoint,position, 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Zt is Z - 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SFVec3f(title, translation,Xt,Yt,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new is Z - incr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Vec3f(myViewpoint,position,X,Y,Znew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15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titlemove1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Moving Title (2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6324480" cy="42228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981080" y="5410080"/>
            <a:ext cx="6172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viewpoint’s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title’s 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-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Program: Moving Title (2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609480"/>
            <a:ext cx="8991360" cy="65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titlemove2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count = 50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distance=  20.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increment = 0.1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='./title/title1.wrl'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var countv=1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 :- text_area(Browser),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 sleep(3000), move_title(count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):- N1 is N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title, translation, Xt,Yt,_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myViewpoint,position, 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t is Z - 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Vec3f(title, translation,Xt,Yt,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viewpoint(myViewpoint,position(X,Y,Z), countv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viewpoint(_V,_,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viewpoint(V,position(X,Y,Z),C):-C1 is C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Znew is Z-incr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SFVec3f(V,position,X,Y,Znew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leep(100)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viewpoint(V,position(X,Y,Znew),C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titlemove2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Objects and  Virtual Worl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447920" y="2666880"/>
            <a:ext cx="634212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Moving Title (3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324840" cy="42228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219320" y="4800600"/>
            <a:ext cx="6400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viewpoint’s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title’s 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text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049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Program: Moving Title (3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838080"/>
            <a:ext cx="8991720" cy="58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titlemove3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):- N1 is N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title, translation, Xt,Yt,_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myViewpoint,position, 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t is Z - 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Vec3f(title, translation,Xt,Yt,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TitleText(titletext,N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viewpoint(myViewpoint,position(X,Y,Z), countv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TitleText(O,N):- I is N mod 5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I,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MFString(O, string, [T]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1, 'Multimedia Authoring II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2, 'Flying Title Example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3, 'Changing Title Strings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4, 'VRML+Java+ Prolog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0, 'Z. Huang 2002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_, 'Thank You very much!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titlemove3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ercis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914400"/>
            <a:ext cx="8077320" cy="45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Design a DLP program to implement a rolling text, namely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text can move along Y-dimension from down to up. You can design your own vrml file, or download it from the websit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asp.cs.vu.nl/mma2/examples/vrml/title/title7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Based on the moving title example 3, design a DLP program to implement moving titles in which the texts and the colors of the titles are changed regularly, using the following fact forma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1, 'Multimedia Authoring II', red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2, 'Flying Title Example', yellow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3, 'Changing Title Strings', green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vrml file is available at: http://wasp.cs.vu.nl/mma2/examples/vrml/title/title2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ccessibility of your desig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1752480"/>
            <a:ext cx="731520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fter you have done your exercises, make them accessible and executable from your project web site. Add a brief description on the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nd your DLP source code to your TA by email, and let him know the link of your MMA2 webpag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52280" y="2895480"/>
            <a:ext cx="1067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home directory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71600" y="2133720"/>
            <a:ext cx="0" cy="2819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371600" y="213372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43000" y="34290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71600" y="495288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05120" y="1905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ma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81080" y="4724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w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19520" y="21337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48120" y="190512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8120" y="190512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581280" y="17524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l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8120" y="350532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81280" y="3200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r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19520" y="495288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4724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ma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343400" y="35053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800600" y="312408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00600" y="31240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00600" y="41148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257800" y="2819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12408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324480" y="2819520"/>
            <a:ext cx="160020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tle2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tle7.wrl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7339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57800" y="3429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257800" y="3886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oot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91120" y="19810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4120" y="1219320"/>
            <a:ext cx="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4120" y="12193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4120" y="16002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34120" y="19051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79132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91320" y="1295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a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91320" y="1676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4120" y="22096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867280" y="19810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34120" y="25146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867280" y="220968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x1.pl, ex1.htm,et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781680" y="15238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34320" y="10666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lpsys.jar,*.clas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49528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724280" y="464832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724280" y="46483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52880" y="4343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erci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57150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029200" y="5410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r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791320" y="57150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248520" y="5334120"/>
            <a:ext cx="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248520" y="53341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248520" y="63244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705720" y="5029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15200" y="53341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248520" y="59436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705720" y="5638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543800" y="5181480"/>
            <a:ext cx="19051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tle2.wrl,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81680" y="6095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oot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172200" y="46483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400800" y="43434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00800" y="434340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400800" y="49528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705720" y="46483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x1.htm,et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96080" y="38862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lpsys.jar,*.clas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629400" y="4038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a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620120" y="4343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335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recommended file structu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35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RML Scene Grap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1219320"/>
            <a:ext cx="8153280" cy="23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VRML V2.0 utf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lation 0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ffuseColor 1.0 1.0 0.0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ometry Cylinder {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height 2.0 radius 1.0}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3809880"/>
            <a:ext cx="273672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RML Coordinate Syste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43400" y="3886200"/>
            <a:ext cx="25146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361960" y="3886200"/>
            <a:ext cx="1981080" cy="13716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4343400" y="1828440"/>
            <a:ext cx="0" cy="20574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934320" y="3505320"/>
            <a:ext cx="663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+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0" y="1523880"/>
            <a:ext cx="6634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+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828800" y="5410080"/>
            <a:ext cx="6318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+Z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419720" y="2666520"/>
            <a:ext cx="1600200" cy="1143000"/>
          </a:xfrm>
          <a:prstGeom prst="line">
            <a:avLst/>
          </a:prstGeom>
          <a:ln w="7632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343400" y="3962520"/>
            <a:ext cx="0" cy="1828800"/>
          </a:xfrm>
          <a:prstGeom prst="line">
            <a:avLst/>
          </a:prstGeom>
          <a:ln w="7632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2133720" y="3886200"/>
            <a:ext cx="2209680" cy="0"/>
          </a:xfrm>
          <a:prstGeom prst="line">
            <a:avLst/>
          </a:prstGeom>
          <a:ln w="7632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172200" y="2286000"/>
            <a:ext cx="479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-Z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267080" y="5867280"/>
            <a:ext cx="5112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-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523880" y="3505320"/>
            <a:ext cx="511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-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otations in VRM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43400" y="3886200"/>
            <a:ext cx="25146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361960" y="3886200"/>
            <a:ext cx="1981080" cy="13716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343400" y="1828440"/>
            <a:ext cx="0" cy="20574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3886200"/>
            <a:ext cx="1218960" cy="360"/>
          </a:xfrm>
          <a:prstGeom prst="line">
            <a:avLst/>
          </a:prstGeom>
          <a:noFill/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791320" y="3581280"/>
            <a:ext cx="15228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12193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otation = &lt;1, 0, 0, 1.57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057400" y="1676160"/>
            <a:ext cx="1905120" cy="99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990720" y="2666880"/>
            <a:ext cx="2446200" cy="32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axis of rot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715000" y="2133720"/>
            <a:ext cx="244620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ngle in radian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5028840" y="1600200"/>
            <a:ext cx="152388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7315200" cy="44863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523880" y="571500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ight-hand R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335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RML Nodes, Fields, and Typ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1219320"/>
            <a:ext cx="8153280" cy="23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VRML V2.0 utf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lation 0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ffuseColor 1.0 1.0 0.0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ometry Cylinder {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height 2.0 radius 1.0}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3962520"/>
            <a:ext cx="85345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lation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FVec3f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 0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tation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FRotation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1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ffuseColor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FColor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0 1.0 0.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ight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FFloat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335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sign 3D Objects for DLP Us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3200400"/>
            <a:ext cx="8153640" cy="25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VRML V2.0 utf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cylinder Transform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lation 0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cylinderMaterial Material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ffuseColor 1.0 1.0 0.0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ometry  Cylinder {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height 2.0 radius 1.0}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1371600"/>
            <a:ext cx="7467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fine object names on VRML no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nipulating values on the fields of defined obj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3D Predicates (bcilib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523880"/>
            <a:ext cx="807732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SFVec3f(ObjectName,Field, X,Y,Z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SFVec3f(ObjectName,Field, X,Y,Z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SFRotation(ObjectName,Field, X,Y,Z,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SFRotation(ObjectName,Field,X,Y,Z,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SFColor(ObjectName,Field, R, G, B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SFColor(ObjectName,Field, R, G, B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335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3D Predicates (bcilib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1066680"/>
            <a:ext cx="8458200" cy="56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adURL(UR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Position(ObjectName,X,Y,Z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tSFVec3f(ObjectName,translation,X,Y,Z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Position(ObjectName,X,Y,Z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setSFVec3f(ObjectName,translation,X,Y,Z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Rotation(ObjectName,X,Y,Z,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getSFRotation(ObjectName, rotation,X,Y,Z,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Rotation(ObjectName,X,Y,Z,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08:18:31Z</dcterms:created>
  <dc:creator>Faculteit Wiskunde en Informatica</dc:creator>
  <dc:description/>
  <dc:language>en-US</dc:language>
  <cp:lastModifiedBy>huang</cp:lastModifiedBy>
  <dcterms:modified xsi:type="dcterms:W3CDTF">2006-05-15T11:40:41Z</dcterms:modified>
  <cp:revision>46</cp:revision>
  <dc:subject/>
  <dc:title>No Slide Title</dc:title>
</cp:coreProperties>
</file>