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1986-73C5-40BA-8BA3-6D759EDD7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DB90-BDB2-437F-ACA0-2B61C1B5F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2789-1764-4136-81F7-CD266BCBC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2ADE-D3F3-4573-A867-BBCD1C46F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1034-F247-403B-A8CE-0A88C1428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305C-8BF0-4952-8AB5-61A41FFEF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3509-2940-433E-981A-3BA4BCDE7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B66E-1775-453C-854C-E770CD6D1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8F99-50D5-40D3-A2FB-9963893A6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AB63-993B-485C-A081-B101D18B2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56D3-0146-4B60-B447-CBD2F1AD7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6A59-5BEE-4872-9828-289F6424B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A4D03-192C-4DEE-9F79-7BED31E588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3D Multiple Web Agents </a:t>
            </a:r>
            <a:br>
              <a:rPr sz="4400"/>
            </a:b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Example 1: 3D Soccer Agent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600200" y="2666880"/>
            <a:ext cx="5970600" cy="26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52280" y="457200"/>
            <a:ext cx="8991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waspsoccer : [bcilib]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url = 'soccer.wrl'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in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ext_area(Browser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_output(Browser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Load the game ... ~n'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adURL(url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ock := new(game_clock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Pulse := new(clock_pulse(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ock &lt;- get_time(TimeLef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the game will start in 5 seconds,~n'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the total playing time is ~w seconds,~n', [TimeLeft]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lay(500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52280" y="304920"/>
            <a:ext cx="8991720" cy="58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the game startup,~n'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ball := new(ball(ball, 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GoalKeeper1 :=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ew(goalKeeper(goalKeeper1,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GoalKeeper2 :=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ew(goalKeeper(goalKeeper2,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UserMe := new(soccerPlayerUser(me_red10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Blue9 := new(soccerPlayer(blue9,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Blue8 := new(soccerPlayer(blue8,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Blue7 := new(soccerPlayer(blue7,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Red2 := new(soccerPlayer(red2,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Red3 := new(soccerPlayer(red3,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Blue11 := new(soccerPlayer(blue11,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Red11 := new(soccerPlayer(red11,Clock)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end_object waspsocce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gnitive model of soccer gam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1" name="cogmodel" descr=""/>
          <p:cNvPicPr/>
          <p:nvPr/>
        </p:nvPicPr>
        <p:blipFill>
          <a:blip r:embed="rId1"/>
          <a:stretch/>
        </p:blipFill>
        <p:spPr>
          <a:xfrm>
            <a:off x="1600200" y="1981080"/>
            <a:ext cx="6477120" cy="431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ction Specification in Agent’s Knowledge-Bas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90720" y="1905120"/>
            <a:ext cx="723888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ok-at-ba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un-to-ba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hoo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ss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ve-arou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un-and-tr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ar-ball-then-ki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…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04920" y="685800"/>
            <a:ext cx="853416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soccerPlayer : [common_process]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…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occerPlayer(Name, Clock) 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SFInt32(Name,whichChoice, 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~w thread active.~n', [Name]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ctivity(Name,Clock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eneral Activity Loop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057400" y="205740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ake the default a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038480" y="25146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95280" y="320040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t the information of the current situ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371600" y="44197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nd how to react (find an intended actio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114800" y="36576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447920" y="563868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ake  the intended action ( do actio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114800" y="49528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781680" y="5791320"/>
            <a:ext cx="17528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8534520" y="2133720"/>
            <a:ext cx="0" cy="3657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6172200" y="213372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457200" y="685800"/>
            <a:ext cx="8077320" cy="43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ctivity(Name,Clock) 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epea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200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ock &lt;- get_time(TimeLef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ok_at_ball(Name,ball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getPositionInformation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(Name,ball,X,Y,Z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ball,Yball,Zball,Dist,Xgoal,Zgoal,Dist1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findHowtoReact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(Name,ball,X,Y,Z,Xball,Yball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Zball,Dist,Xgoal,Zgoal,Dist1,Action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doAction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(Action,Name,ball,X,Y,Z,Xball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Yball,Zball,Dist,Xgoal,Zgoal,Dist1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imeLeft &lt; 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quitGame(Name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76320"/>
            <a:ext cx="9296280" cy="75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%findHowtoReact(+Player,+Ball,+X,+Y,+Z,+Xball,+Yball,+Zball,+Distball,+Xgoal,+Zgoal,+Distgoal,-Action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_,Ball,_,_,_,_,_,_,Dist,_,_,Dist1,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hooting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=&lt; kickable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1 =&lt; kickableGoal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_,Ball,_,_,_,_,_,_,Dist,_,_,Dist1,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passing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=&lt; kickable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1 &gt; kickableGoal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Player,_,_,_,_,X1,_,_,Dist,_,_,_,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run_to_ball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&gt; kickable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FieldAreaInformation(Player,_,_,FieldMin,FieldMax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eldMin =&lt; X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eldMax &gt;= X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Player,_,_,_,_,X1,_,_,Dist,_,_,_,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ove_around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&gt; kickable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FieldAreaInformation(Player,_,_,FieldMin,_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1 &lt; FieldMin,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80880" y="457200"/>
            <a:ext cx="8153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Player,_,_,_,_,X1,_,_,Dist,_,_,_,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ove_around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&gt; kickable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FieldAreaInformation(Player,_,_,_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eldMax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1 &gt; FieldMax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_,_,_,_,_,_,_,_,_,_,_,_,_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533520"/>
            <a:ext cx="9144000" cy="70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oAction(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hooting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,Player,Ball,_,_,_,X1,Y1,Z1,_,Xgoal,Zgoal,Dist1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kick_ball_to_position(Ball,X1,Y1,Z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goal,0.0,Zgoal,Dist1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oAction(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passing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,Player,Ball,X,Y,Z,X1,Y1,Z1,_,_,_,_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CoTeammate(Player,X,Y,Z,Teammat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2,_,Z2,_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oPassing(Player,Ball,X,Y,Z,X1,Y1,Z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eammate,X2,_,Z2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oAction(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run_to_ball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,Player,Ball,X,Y,Z,_X1,_Y1,_Z1,_Dist,_,_,_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,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run_and_trac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(Player,Ball,X,Y,Z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kickableDistance,runable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unstep,runSleepTime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3D Soccer Age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828800"/>
            <a:ext cx="853452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gent Model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  Decision Making Ag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Multiple Agent Managemen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  Non-distributed Multiple Agent Syst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ognitive Mod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hysics of soccer ball:</a:t>
            </a:r>
            <a:br>
              <a:rPr sz="44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Motion Equation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62120" y="2438280"/>
            <a:ext cx="7772400" cy="349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x=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urier New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+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urier New"/>
              </a:rPr>
              <a:t>x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 * 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y=y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urier New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+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urier New"/>
              </a:rPr>
              <a:t>y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 * t - 1/2 * g* t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ourier New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z=z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urier New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+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urier New"/>
              </a:rPr>
              <a:t>z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 * 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ere &lt;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urier New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, y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urier New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, z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urier New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&gt; be the initial position of the soccer ball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&lt;v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urier New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,v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urier New"/>
              </a:rPr>
              <a:t>y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,v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urier New"/>
              </a:rPr>
              <a:t>z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&gt; be the velocity vector of the kick, and g be the constant accelera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85800" y="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hysics of soccer ball in DLP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33520" y="914400"/>
            <a:ext cx="8229600" cy="513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kickedwithStaticStart(Ball,X0,Y0,Z0,Vx,Vy,Vz,BallSleepTime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total is Vy/4.9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teps := 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epea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BallSleepTime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’ is steps*BallSleepTim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’ is X0+ Vx*T’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Y’ is Y0+ Vy*T'-4.9*T'*T’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Z’ is Z0+ Vz*T’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Position(Ball,X',Y',Z'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++steps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teps &gt; Ttotal//BallSleepTim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oblem: Line-up Phenomen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990720" y="2286000"/>
            <a:ext cx="7010280" cy="36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olu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5800" y="1219320"/>
            <a:ext cx="784872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lution 1:  obtaining more information of players, and add more computation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blem: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unsuitable for real-time ag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lution 2: Introducing Distributed behavioral models, lik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locks, herds, and schools in artificial lif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blem: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not intelligent enoug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666880" y="4191120"/>
            <a:ext cx="3657600" cy="24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imulated Flocks </a:t>
            </a:r>
            <a:br>
              <a:rPr sz="4400"/>
            </a:b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Craig Reynolds 1987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9480" y="1905120"/>
            <a:ext cx="792504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Collision Avoidance: avoid collisions with nearby flockmat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Velocity Matching: attempt to match velocity with nearby flockmat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. Flock Centering: attempt to stay close to nearby flockmat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3D Multiple Web Agents </a:t>
            </a:r>
            <a:br>
              <a:rPr sz="4400"/>
            </a:b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Example 2: Dog worl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295280" y="2209680"/>
            <a:ext cx="6916680" cy="41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ogworld.wr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0880" y="914400"/>
            <a:ext cx="8305920" cy="627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PROTO Doggie [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Vec3f position 0 0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Rotation rotation 0 1 0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Int32 whichChoice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Int32  id     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Bool  bark  FALSE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{Transform { translation IS posi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otation IS ro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[ Dog {whichChoice IS whichChoice id IS id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ound {minFront 10 minBack 10 intensity 2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ource AudioClip { loop IS bark url ["bark.wav"] }} ]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form { children [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dog1 Doggie {position 0.0 0.0 -10.0 whichChoice 0 id 1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dog2 Doggie {position -1.0 0.0 -15.0 whichChoice 0 id 2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dog10 Doggie {position 5.0 0.0 -16.0 whichChoice 0 id 10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]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762120" y="1143000"/>
            <a:ext cx="7619760" cy="15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TERNPROTO Dog [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Rotation ro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Int32 whichCho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Vec3f posi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Int32  id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]["./dog.wrl"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048120" y="2743200"/>
            <a:ext cx="2496960" cy="35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ehavioral Mode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800100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the master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ove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then dogs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ove with the maste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the master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tand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then dogs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bark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and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ove to the maste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the master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s slowing dow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then dogs stop move,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ook 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he maste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and bark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 the master is too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ar awa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from a dog, the dog moves  back to the mast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04920" y="228600"/>
            <a:ext cx="8686800" cy="673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dogworld : [bcilib]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url = './dog/dogworld.wrl'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in :-text_area(Browser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_output(Browser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Load the game ...~n'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adURL(url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ock := new(game_clock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Pulse := new(game_clock_pulse(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ock &lt;- get_game_time(TimeLef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the game will start in 5 seconds,~n'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the total playing time is ~w seconds,~n', [TimeLeft]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500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the game startup,~n'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dog1 := new(dog(dog1,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dog2 := new(dog(dog2,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dog7 := new(dog(dog7,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dog8 := new(dog(dog8,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dog9 := new(dog(dog9,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dog10:= new(dog(dog10, Clock)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end_object dogworl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eneral Consider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905120"/>
            <a:ext cx="723888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ams:  Red and Blu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layers:  Goalkeeper,  SoccerPlayerAgent,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ccerPlayerUs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ccer Bal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ccer Fiel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ore Boar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refere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52280" y="152280"/>
            <a:ext cx="8839440" cy="66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game_clock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time_left = 500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_game_time(Time) 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ime := time_lef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_game_time(Time) 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ime_left := Tim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end_object game_clock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game_clock_puls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ame_clock_pulse(Clock) 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epea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100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ock &lt;- get_game_time(Time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eft is Time - 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ock &lt;- set_game_time(Lef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eft &lt; 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end_object game_clock_puls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76320" y="228600"/>
            <a:ext cx="8991360" cy="66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dog : [bcilib]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sleeptime = 25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small_movement = 0.2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big_movement = 0.4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enlargement = 5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max_distance = 4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og(Dog, Clock) 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SFInt32(Dog,whichChoice, 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~w thread active.~n', [Dog]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ctivity(Dog,Clock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ctivity(Dog,Clock) 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epea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50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ock &lt;- get_game_time(TimeLef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getInformation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(Dog, DogPosition, MasterPosition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sterRotation1, MasterPosition2, MasterRotation2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findHowtoReact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(Dog,DogPosition,MasterPosition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sterRotation1,MasterPosition2,MasterRotation2, Action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doAction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(Dog,DogPosition,MasterPosition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sterRotation1,MasterPosition2, MasterRotation2,Action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imeLeft &lt; 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04920" y="380880"/>
            <a:ext cx="8381880" cy="407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Information(Dog,position(X,Y,Z),position(X1,Y1,Z1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otation(X2,Y2,Z2,R2),position(X3,Y3,Z3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otation(X4,Y4,Z4,R4)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Dog,position,X,Y,Z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proxSensor,position,X1,Y1,Z1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Rotation(proxSensor,orientation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2,Y2,Z2,R2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sleeptime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proxSensor,position,X3,Y3,Z3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Rotation(proxSensor,orientation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4,Y4,Z4,R4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28600" y="228600"/>
            <a:ext cx="8610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_,position(X,_Y,Z),_,_,position(X3,_Y3,Z3),_,move_to_master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ance2D(X,Z,X3,Z3,Dis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&gt; max_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_,_,position(X1,_Y1,Z1),_,position(X3,_Y3,Z3),_,move_to_master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ance2D(X1,Z1,X3,Z3,Dis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&lt; small_mov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_,_,position(X1,_Y1,Z1),_,position(X3,_Y3,Z3),_,move_with_master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ance2D(X1,Z1,X3,Z3, Dis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&gt; big_mov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_,_,position(X1,_Y1,Z1),_,position(X3,_Y3,Z3),_,look_at_master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ance2D(X1,Z1,X3,Z3,Dis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&lt; big_mov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&gt; small_mov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_,_,_,_,_,_,look_at_master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04920" y="152280"/>
            <a:ext cx="8534160" cy="708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oAction(Dog,position(X,_Y,Z),position(X1,_Y1,Z1),_,_,_,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look_at_master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ok_at_position(Dog,X,Z,X1,Z1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bark(Dog,500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oAction(Dog,position(X,Y,Z),position(X1,_Y1,Z1),_,_,_,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ove_to_master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getSFInt32(Dog,id,ID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getFlockCenter(position(X2,_Y2,Z2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aster_standing,[]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dFunction(ID, Xd,Zd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3 is X2 + Xd, Z3 is Z2 + Zd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ok_at_position(Dog,X,Z,X1,Z1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bark(Dog,500),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o_position(Dog,position(X,Y,Z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position(X3,Y,Z3),5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oAction(Dog, position(X,Y,Z),position(X1,_Y1,Z1),_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position(X3,Y3,Z3),_,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ove_with_master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dif is X3-X1, Zdif is Z3-Z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getFlockCenter(position(X5,_Y5,Z5), master_moving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[position(X3,Y3,Z3),Xdif,Zdif]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getSFInt32(Dog,id,ID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dFunction(ID, Xd,Zd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6 is X5 + Xd, Z6 is Z5 + Zd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ok_at_position(Dog,X,Z,X6,Z6),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o_position(Dog,position(X,Y,Z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position(X6,Y,Z6),1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lock and Distributive Func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6705720" cy="42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lock  Cent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579132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76320" y="152280"/>
            <a:ext cx="8915400" cy="62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FlockCenter(position(X,Y,Z),master_standing, []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proxSensor,position,X,Y,Z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FlockCenter(position(X,Y,Z),master_moving, [position(X1,Y,Z1), Xdif, Zdif]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 is X1 + Xdif* enlarg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Z is Z1 + Zdif* enlarg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1,0,3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2,-1,-2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3,1,-7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4,-2,3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5,2,2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6,-3,0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7,3,-1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8,-4,4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9,5,-4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10,5,-3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bark(Dog,Time):-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SFBool(Dog, bark, true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Time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SFBool(Dog, bark, false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end_object dog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ercis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4920" y="914400"/>
            <a:ext cx="8229600" cy="26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 Continue to work on the previous unfinished assignmen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 Improve the dog world example by adding more rules on the behavioral model, like thes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If the master stands near a dog, then the dog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jumps up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and bark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If the master stands and turns slowly, then dogs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lie upside dow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219320" y="3048120"/>
            <a:ext cx="2253960" cy="26542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562720" y="3124080"/>
            <a:ext cx="2286000" cy="24386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28600" y="58672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Noti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38080" y="1828800"/>
            <a:ext cx="769644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gister your group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June 26, 2006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esentation of your system design.</a:t>
            </a:r>
            <a:r>
              <a:rPr b="0" lang="nl-NL" sz="2400" spc="-1" strike="noStrike">
                <a:solidFill>
                  <a:srgbClr val="ffff00"/>
                </a:solidFill>
                <a:latin typeface="Times New Roman"/>
              </a:rPr>
              <a:t> 10 minutes for each group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occer Fiel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48" name="field1" descr=""/>
          <p:cNvPicPr/>
          <p:nvPr/>
        </p:nvPicPr>
        <p:blipFill>
          <a:blip r:embed="rId1"/>
          <a:stretch/>
        </p:blipFill>
        <p:spPr>
          <a:xfrm>
            <a:off x="1295280" y="2133720"/>
            <a:ext cx="6350040" cy="40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sign of Virtual Worl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1295280"/>
            <a:ext cx="8534520" cy="45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Transform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translation 0 0 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hildren [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hape 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ppearance Appearance 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texture ImageTexture { ur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"field1.gif" 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textureTransform TextureTransform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{scale 1 1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}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ometry Box {size 100 .2 64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occer Player Avata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1981080"/>
            <a:ext cx="78487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sition: to set the position of the avata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tation: to set the rotation of the avata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ickname: to give a hint to the name of the avata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ichChoice: to indicate whether or not the avatar should appear in the virtual worlds, which would be convenient to add or delete any avatars from the scen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icturefile: to set the clothes and the appearance of the avatar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09480" y="193680"/>
            <a:ext cx="8001000" cy="49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PROTO Sportman [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Vec3f posi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Rotation ro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Int32 whichCho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String nicknam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MFString picturefile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{......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form  {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[ DEF goalKeeper1 Sportma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{rotation 0 1 0 -1.570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whichChoice -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position 48 1.8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picturefile ["sportmanblue1.jpg"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ickname "blue1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} ]  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oles of Soccer Player Ag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828800"/>
            <a:ext cx="830592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oalkeeper: An agent whose active area is around the goal gate of its team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ccerPlayer: An autonomous agent plays one of the following role: forward, middle fielder, and defend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ccerPlayerUser: An agent (more exactly, just an object), which  corresponds the activities of the us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ultiple Thread Contro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4920" y="1828800"/>
            <a:ext cx="815328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malizing the behaviors of multiple player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hrea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: Separate instruction stream sharing a common memory address spac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ultiple thread control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: makes a program for which the parts of its code can be executed concurrently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1T10:25:07Z</dcterms:created>
  <dc:creator>Faculteit Wiskunde en Informatica</dc:creator>
  <dc:description/>
  <dc:language>en-US</dc:language>
  <cp:lastModifiedBy>h</cp:lastModifiedBy>
  <dcterms:modified xsi:type="dcterms:W3CDTF">2006-06-11T10:14:28Z</dcterms:modified>
  <cp:revision>48</cp:revision>
  <dc:subject/>
  <dc:title>3D Soccer Agent</dc:title>
</cp:coreProperties>
</file>