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C037-2252-460A-B2DC-8ACCEFA8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A4B8-CA05-40C3-A9EF-BDEA0808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08C4-DA70-495A-BA87-CFDF2DDE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D51C-4965-4258-8FFE-A7875498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FA28-5A34-442F-9995-5B0C5817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8BA7-675A-494F-8818-D88C8C76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A65F-0C24-4BB6-B748-E9456878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1710-BE4D-480E-80F6-C3535B0B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A0B3-B89C-4292-8A66-46AF130E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BF54-A6E4-49ED-A6B6-6A2002EF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AC19-26B2-4B4F-917B-AAF9C20C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4DAF-8EA0-4814-A774-6C69866F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F97B-A320-45FA-A7DF-82E22BCF3A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for Virtual Environments (I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600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ML EAI (External Authoring Interf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eai_diagram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324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unch DLP Objects from Web Browser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76201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body bgcolor=whi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embed src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/../vrml/root.wrl" width="100%" height="100%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applet codebase="./classes"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archive="dlpsys.jar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code="</a:t>
            </a:r>
            <a:r>
              <a:rPr b="1" lang="en-US" sz="2000" spc="-1" strike="noStrike">
                <a:solidFill>
                  <a:srgbClr val="00ffff"/>
                </a:solidFill>
                <a:latin typeface="Courier New"/>
              </a:rPr>
              <a:t>dlpbrow.clas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  width=600 height=300 MAY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mayscript" value="tru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cols" value="6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rows" value="1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object" value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lp-example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2052720"/>
            <a:ext cx="66294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myViewpoint Viewpoint {position 0 3 60 orientation 0 1 0 0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translation 0 3 0 rotation 1 0 0 1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Transform {translation 0 0 0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 ImageTe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 url "star1.jpg" repeatS TRUE repeatT TRUE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Transform TextureTransform {scale 30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0.0 0.0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.0 1.0 1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height 2000 radius 2.5 top TRUE botto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LSE}}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685800"/>
            <a:ext cx="81532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Intelligent Multimedia Technology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3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Distributed Logic Programming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00 minBack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nsity 20 source AudioClip { loop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rl ["mozart38.wav"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89154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0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note that the path is relative to ‘root.wrl’ in the html f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 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 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81080" y="541008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ance between the viewpoint and the title is s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43000"/>
            <a:ext cx="82296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 tit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”Multimedia Authoring II: Flying Title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2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14400"/>
            <a:ext cx="77724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1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distance = 5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81080" y="5410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899136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2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distance=  20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1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countv=1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 sleep(3000), 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_V,_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),C):-C1 is C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new is Z-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V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leep(100)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new),C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Objects and  Virtual Worl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42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222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80060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ext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838080"/>
            <a:ext cx="89917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3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titletext,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O,N):- I is N mod 5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I,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MFString(O, string, [T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4, 'VRML+Java+ Prolog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0, 'Z. Huang 2002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_, 'Thank You very much!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914400"/>
            <a:ext cx="80773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esign a DLP program to implement a rolling text, namel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xt can move along Y-dimension from down to up. You can design your own vrml file, or download it from the web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mma2/examples/vrml/title/title7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ased on the moving title example 3, design a DLP program to implement moving titles in which the texts and the colors of the titles are changed regularly, using the following fact form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, red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, yellow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, green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rml file is available at: http://wasp.cs.vu.nl/mma2/examples/vrml/title/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essibility of you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752480"/>
            <a:ext cx="73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you have done your exercises, make them accessible and executable from your project web site. Add a brief description o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your DLP source code to your TA by email, and let him know the link of your MMA2 webpag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28954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ome director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337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133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952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905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905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124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124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19520"/>
            <a:ext cx="1600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7.wrl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2193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219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14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09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pl, 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523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1066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648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71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518148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,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3886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recommended file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Scene Grap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73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Coordinate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3505320"/>
            <a:ext cx="66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0" y="1523880"/>
            <a:ext cx="66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5410080"/>
            <a:ext cx="63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19720" y="2666520"/>
            <a:ext cx="1600200" cy="11430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96252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33720" y="38862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72200" y="2286000"/>
            <a:ext cx="47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5867280"/>
            <a:ext cx="511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3505320"/>
            <a:ext cx="51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tations in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1218960" cy="360"/>
          </a:xfrm>
          <a:prstGeom prst="line">
            <a:avLst/>
          </a:prstGeom>
          <a:noFill/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91320" y="3581280"/>
            <a:ext cx="152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tation = &lt;1, 0, 0, 1.57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057400" y="1676160"/>
            <a:ext cx="1905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2666880"/>
            <a:ext cx="244620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xis of ro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15000" y="2133720"/>
            <a:ext cx="2446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le in radia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028840" y="16002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5715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-hand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Nodes, Fields, and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9625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on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Vec3f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Rotation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1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use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1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Float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 for DLP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8153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 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3716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object names on VRML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ing values on the fields of defined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523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Rotation(ObjectName,Field, 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Rotation(ObjectName,Field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066680"/>
            <a:ext cx="84582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URL(UR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s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getSFRotation(ObjectName, rotation,X,Y,Z,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8:18:31Z</dcterms:created>
  <dc:creator>Faculteit Wiskunde en Informatica</dc:creator>
  <dc:description/>
  <dc:language>en-US</dc:language>
  <cp:lastModifiedBy>huang</cp:lastModifiedBy>
  <dcterms:modified xsi:type="dcterms:W3CDTF">2006-05-15T11:40:41Z</dcterms:modified>
  <cp:revision>46</cp:revision>
  <dc:subject/>
  <dc:title>No Slide Title</dc:title>
</cp:coreProperties>
</file>