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E1CC-0015-4529-8565-C4FEC6942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5BE1-69D7-415A-8658-8B160700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F027-049F-4F8D-9095-045118F42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2B40-0912-45C7-BEFB-BAE6A2C50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13A7-29FE-4EC5-A481-B6471963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4774-4338-461C-8D73-6BB6C02C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3C82-8484-45F5-BE04-18ED0547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6D68-70B1-4846-B210-4A92EEFC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4773-CC45-4EE7-B777-5DBF00FD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2033-CC60-43C6-92FE-6991D59E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719A-A589-4DD3-AC7B-2D1182A8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D267-4962-40F8-B88C-AD1A7F79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0201-8124-4723-BE52-C30A86B281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s in the previous examp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2286000"/>
            <a:ext cx="83822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just 3D objec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not independent thre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gent architect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: Defin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00200"/>
            <a:ext cx="80773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 entity which can be programmed to conduct complex behav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  is a piece of software which acts to accomplish tasks on behalf of its user [McGill, 1996]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ything that can be viewed as perceiving its environment through sensors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ng upon that environment through effectors [Russell and Norvig, 1995]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ple Reflex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962160" y="46483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-Making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3276720"/>
            <a:ext cx="34290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35053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cision-making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562720" y="41907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 Mak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447920" y="2514600"/>
            <a:ext cx="40384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447920" y="3733920"/>
            <a:ext cx="40384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4191120"/>
            <a:ext cx="3962520" cy="19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2057400"/>
            <a:ext cx="167652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3276720"/>
            <a:ext cx="182880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5791320"/>
            <a:ext cx="1905120" cy="7617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4267080"/>
            <a:ext cx="0" cy="114300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4648320"/>
            <a:ext cx="0" cy="83808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3657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62720" y="2209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3429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5943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3352680"/>
            <a:ext cx="1295640" cy="1447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3581280"/>
            <a:ext cx="1371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28954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4114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5562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DI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2438280"/>
            <a:ext cx="4038480" cy="3200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2514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638680" y="54864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5486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2971800"/>
            <a:ext cx="3504960" cy="1600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30481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DI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34290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38862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3886200"/>
            <a:ext cx="106704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5053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3962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n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3886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ie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38680" y="4572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45720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lligent Agents: Main Fea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610840" cy="52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utonomy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system should be able to act without the direct intervention of others and should have control over its own actions and internal st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sponsivene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perceive their environ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respond in a timely fashion to changes that occur in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-activ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not simply act in response to their environment. They should be able to exhibit opportunistic, goal-directed behavior and make the initiative where appropri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ocialnes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ents should be able to interact, when they deem appropriate, with other artificial agents and humans in order to complete their own problem solving and to help others with the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 Technology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Online Resour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981080"/>
            <a:ext cx="7620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link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8:14:13Z</dcterms:created>
  <dc:creator>Faculteit Wiskunde en Informatica</dc:creator>
  <dc:description/>
  <dc:language>en-US</dc:language>
  <cp:lastModifiedBy>huang</cp:lastModifiedBy>
  <dcterms:modified xsi:type="dcterms:W3CDTF">2003-10-06T15:48:25Z</dcterms:modified>
  <cp:revision>11</cp:revision>
  <dc:subject/>
  <dc:title>Agent</dc:title>
</cp:coreProperties>
</file>