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96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41588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96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544920"/>
            <a:ext cx="2709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43120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960" y="354492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960" y="1415880"/>
            <a:ext cx="410652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44920"/>
            <a:ext cx="8415360" cy="194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5880"/>
            <a:ext cx="8415360" cy="4075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83560" indent="-4622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385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19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1484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DDLOGO-a3" descr=""/>
          <p:cNvPicPr/>
          <p:nvPr/>
        </p:nvPicPr>
        <p:blipFill>
          <a:blip r:embed="rId3"/>
          <a:stretch/>
        </p:blipFill>
        <p:spPr>
          <a:xfrm>
            <a:off x="7772400" y="6454800"/>
            <a:ext cx="1371600" cy="403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76320" y="65372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E750-E5A7-44DD-8FEA-BEE6DB1600D1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.NET and C#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12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ter Groeneweg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rije Universite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groene@few.vu.n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Common Language Runtime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6" name="interopdotnet1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518184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105520" y="1600200"/>
            <a:ext cx="3504960" cy="1752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.NET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2120" y="1676520"/>
            <a:ext cx="7772400" cy="3979080"/>
            <a:chOff x="762120" y="1676520"/>
            <a:chExt cx="7772400" cy="3979080"/>
          </a:xfrm>
        </p:grpSpPr>
        <p:sp>
          <p:nvSpPr>
            <p:cNvPr id="170" name=""/>
            <p:cNvSpPr/>
            <p:nvPr/>
          </p:nvSpPr>
          <p:spPr>
            <a:xfrm>
              <a:off x="2976480" y="3971160"/>
              <a:ext cx="3348000" cy="168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mpler programming 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81480" y="1676520"/>
              <a:ext cx="3353040" cy="1600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eb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120" y="1676520"/>
              <a:ext cx="3352680" cy="160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y 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3" name=""/>
            <p:cNvCxnSpPr>
              <a:stCxn id="172" idx="4"/>
              <a:endCxn id="170" idx="1"/>
            </p:cNvCxnSpPr>
            <p:nvPr/>
          </p:nvCxnSpPr>
          <p:spPr>
            <a:xfrm>
              <a:off x="2438280" y="3276720"/>
              <a:ext cx="1029600" cy="953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7"/>
            </p:cNvCxnSpPr>
            <p:nvPr/>
          </p:nvCxnSpPr>
          <p:spPr>
            <a:xfrm flipH="1">
              <a:off x="5833800" y="3276720"/>
              <a:ext cx="1024560" cy="953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5" name=""/>
            <p:cNvCxnSpPr>
              <a:stCxn id="172" idx="6"/>
              <a:endCxn id="171" idx="2"/>
            </p:cNvCxnSpPr>
            <p:nvPr/>
          </p:nvCxnSpPr>
          <p:spPr>
            <a:xfrm>
              <a:off x="4114440" y="2476080"/>
              <a:ext cx="106740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eb Servic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440" y="1676520"/>
            <a:ext cx="216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Verdana"/>
              </a:rPr>
              <a:t>DCOM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55360" y="1676520"/>
            <a:ext cx="136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Verdana"/>
              </a:rPr>
              <a:t>ASP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76520" y="1752480"/>
            <a:ext cx="1828800" cy="914400"/>
            <a:chOff x="1676520" y="1752480"/>
            <a:chExt cx="1828800" cy="914400"/>
          </a:xfrm>
        </p:grpSpPr>
        <p:sp>
          <p:nvSpPr>
            <p:cNvPr id="180" name=""/>
            <p:cNvSpPr/>
            <p:nvPr/>
          </p:nvSpPr>
          <p:spPr>
            <a:xfrm>
              <a:off x="1752840" y="1752480"/>
              <a:ext cx="1600200" cy="9144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676520" y="1981080"/>
              <a:ext cx="1828800" cy="3808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419720" y="1676520"/>
            <a:ext cx="1828800" cy="914400"/>
            <a:chOff x="4419720" y="1676520"/>
            <a:chExt cx="1828800" cy="914400"/>
          </a:xfrm>
        </p:grpSpPr>
        <p:sp>
          <p:nvSpPr>
            <p:cNvPr id="183" name=""/>
            <p:cNvSpPr/>
            <p:nvPr/>
          </p:nvSpPr>
          <p:spPr>
            <a:xfrm>
              <a:off x="4496040" y="1676520"/>
              <a:ext cx="1600200" cy="9144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419720" y="1905120"/>
              <a:ext cx="1828800" cy="3808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542120" y="3352680"/>
            <a:ext cx="3437640" cy="1617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ASP+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Webform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2971800"/>
            <a:ext cx="3353040" cy="10666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SOAP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4495680"/>
            <a:ext cx="335304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Biztalk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eb Servic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9" name="Qualcomm%20phone%20w%20Expedia%20screen%2002_00" descr=""/>
          <p:cNvPicPr/>
          <p:nvPr/>
        </p:nvPicPr>
        <p:blipFill>
          <a:blip r:embed="rId2"/>
          <a:srcRect l="0" t="0" r="0" b="32687"/>
          <a:stretch/>
        </p:blipFill>
        <p:spPr>
          <a:xfrm>
            <a:off x="6743880" y="4114800"/>
            <a:ext cx="67932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600880" y="1905120"/>
            <a:ext cx="2666880" cy="1066680"/>
          </a:xfrm>
          <a:prstGeom prst="rect">
            <a:avLst/>
          </a:prstGeom>
          <a:ln w="0">
            <a:noFill/>
          </a:ln>
        </p:spPr>
      </p:pic>
      <p:cxnSp>
        <p:nvCxnSpPr>
          <p:cNvPr id="191" name=""/>
          <p:cNvCxnSpPr>
            <a:stCxn id="190" idx="0"/>
            <a:endCxn id="192" idx="0"/>
          </p:cNvCxnSpPr>
          <p:nvPr/>
        </p:nvCxnSpPr>
        <p:spPr>
          <a:xfrm rot="5400000">
            <a:off x="4130640" y="-245520"/>
            <a:ext cx="653040" cy="4953960"/>
          </a:xfrm>
          <a:prstGeom prst="curvedConnector5">
            <a:avLst>
              <a:gd name="adj1" fmla="val -49145"/>
              <a:gd name="adj2" fmla="val 50000"/>
              <a:gd name="adj3" fmla="val -49145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93" name=""/>
          <p:cNvGrpSpPr/>
          <p:nvPr/>
        </p:nvGrpSpPr>
        <p:grpSpPr>
          <a:xfrm>
            <a:off x="1980000" y="2971080"/>
            <a:ext cx="4953600" cy="915120"/>
            <a:chOff x="1980000" y="2971080"/>
            <a:chExt cx="4953600" cy="915120"/>
          </a:xfrm>
        </p:grpSpPr>
        <p:cxnSp>
          <p:nvCxnSpPr>
            <p:cNvPr id="194" name=""/>
            <p:cNvCxnSpPr>
              <a:stCxn id="192" idx="1"/>
              <a:endCxn id="190" idx="2"/>
            </p:cNvCxnSpPr>
            <p:nvPr/>
          </p:nvCxnSpPr>
          <p:spPr>
            <a:xfrm flipH="1" flipV="1" rot="5400000">
              <a:off x="4304880" y="646200"/>
              <a:ext cx="304200" cy="4953960"/>
            </a:xfrm>
            <a:prstGeom prst="curvedConnector5">
              <a:avLst>
                <a:gd name="adj1" fmla="val -75829"/>
                <a:gd name="adj2" fmla="val 50000"/>
                <a:gd name="adj3" fmla="val -75829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4076640" y="3048120"/>
              <a:ext cx="762120" cy="838080"/>
            </a:xfrm>
            <a:prstGeom prst="flowChartDocument">
              <a:avLst/>
            </a:prstGeom>
            <a:solidFill>
              <a:srgbClr val="66ff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&lt;html&gt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…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&lt;/html&gt;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9" idx="0"/>
            <a:endCxn id="192" idx="2"/>
          </p:cNvCxnSpPr>
          <p:nvPr/>
        </p:nvCxnSpPr>
        <p:spPr>
          <a:xfrm flipV="1" rot="16200000">
            <a:off x="3753000" y="784440"/>
            <a:ext cx="1558080" cy="5103000"/>
          </a:xfrm>
          <a:prstGeom prst="curvedConnector5">
            <a:avLst>
              <a:gd name="adj1" fmla="val 117425"/>
              <a:gd name="adj2" fmla="val 50000"/>
              <a:gd name="adj3" fmla="val 117425"/>
            </a:avLst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1980000" y="3274560"/>
            <a:ext cx="5102640" cy="2211120"/>
            <a:chOff x="1980000" y="3274560"/>
            <a:chExt cx="5102640" cy="2211120"/>
          </a:xfrm>
        </p:grpSpPr>
        <p:cxnSp>
          <p:nvCxnSpPr>
            <p:cNvPr id="198" name=""/>
            <p:cNvCxnSpPr>
              <a:stCxn id="192" idx="3"/>
              <a:endCxn id="189" idx="2"/>
            </p:cNvCxnSpPr>
            <p:nvPr/>
          </p:nvCxnSpPr>
          <p:spPr>
            <a:xfrm flipH="1" rot="16200000">
              <a:off x="3539880" y="1714680"/>
              <a:ext cx="1983240" cy="5103000"/>
            </a:xfrm>
            <a:prstGeom prst="curvedConnector5">
              <a:avLst>
                <a:gd name="adj1" fmla="val 111510"/>
                <a:gd name="adj2" fmla="val 50000"/>
                <a:gd name="adj3" fmla="val 111510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2781360" y="4571640"/>
              <a:ext cx="761760" cy="838440"/>
            </a:xfrm>
            <a:prstGeom prst="flowChartDocumen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urier New"/>
                </a:rPr>
                <a:t>???????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028880" y="2514600"/>
            <a:ext cx="1904760" cy="762120"/>
          </a:xfrm>
          <a:prstGeom prst="cloudCallout">
            <a:avLst>
              <a:gd name="adj1" fmla="val -14083"/>
              <a:gd name="adj2" fmla="val 1687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eb Servic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2057400"/>
            <a:ext cx="1905120" cy="533520"/>
          </a:xfrm>
          <a:prstGeom prst="rect">
            <a:avLst/>
          </a:prstGeom>
          <a:solidFill>
            <a:srgbClr val="006ca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657600"/>
            <a:ext cx="1905120" cy="533520"/>
          </a:xfrm>
          <a:prstGeom prst="rect">
            <a:avLst/>
          </a:prstGeom>
          <a:solidFill>
            <a:srgbClr val="006ca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2819520"/>
            <a:ext cx="1904760" cy="533160"/>
          </a:xfrm>
          <a:prstGeom prst="rect">
            <a:avLst/>
          </a:prstGeom>
          <a:solidFill>
            <a:srgbClr val="006ca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3505320"/>
            <a:ext cx="1905120" cy="533160"/>
          </a:xfrm>
          <a:prstGeom prst="rect">
            <a:avLst/>
          </a:prstGeom>
          <a:solidFill>
            <a:srgbClr val="006ca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wapphone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295280" cy="1241280"/>
          </a:xfrm>
          <a:prstGeom prst="rect">
            <a:avLst/>
          </a:prstGeom>
          <a:ln w="0">
            <a:noFill/>
          </a:ln>
        </p:spPr>
      </p:pic>
      <p:pic>
        <p:nvPicPr>
          <p:cNvPr id="206" name="organiser" descr=""/>
          <p:cNvPicPr/>
          <p:nvPr/>
        </p:nvPicPr>
        <p:blipFill>
          <a:blip r:embed="rId3"/>
          <a:stretch/>
        </p:blipFill>
        <p:spPr>
          <a:xfrm>
            <a:off x="7391520" y="3962520"/>
            <a:ext cx="1039680" cy="822240"/>
          </a:xfrm>
          <a:prstGeom prst="rect">
            <a:avLst/>
          </a:prstGeom>
          <a:ln w="0">
            <a:noFill/>
          </a:ln>
        </p:spPr>
      </p:pic>
      <p:pic>
        <p:nvPicPr>
          <p:cNvPr id="207" name="handheld" descr=""/>
          <p:cNvPicPr/>
          <p:nvPr/>
        </p:nvPicPr>
        <p:blipFill>
          <a:blip r:embed="rId4"/>
          <a:stretch/>
        </p:blipFill>
        <p:spPr>
          <a:xfrm>
            <a:off x="5334120" y="46483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allinone_s" descr=""/>
          <p:cNvPicPr/>
          <p:nvPr/>
        </p:nvPicPr>
        <p:blipFill>
          <a:blip r:embed="rId5"/>
          <a:stretch/>
        </p:blipFill>
        <p:spPr>
          <a:xfrm>
            <a:off x="1981080" y="4800600"/>
            <a:ext cx="914400" cy="914400"/>
          </a:xfrm>
          <a:prstGeom prst="rect">
            <a:avLst/>
          </a:prstGeom>
          <a:ln w="0">
            <a:noFill/>
          </a:ln>
        </p:spPr>
      </p:pic>
      <p:cxnSp>
        <p:nvCxnSpPr>
          <p:cNvPr id="209" name=""/>
          <p:cNvCxnSpPr>
            <a:stCxn id="208" idx="0"/>
            <a:endCxn id="202" idx="1"/>
          </p:cNvCxnSpPr>
          <p:nvPr/>
        </p:nvCxnSpPr>
        <p:spPr>
          <a:xfrm flipV="1" rot="16200000">
            <a:off x="1421640" y="3783600"/>
            <a:ext cx="876960" cy="1157400"/>
          </a:xfrm>
          <a:prstGeom prst="curvedConnector5">
            <a:avLst>
              <a:gd name="adj1" fmla="val 34743"/>
              <a:gd name="adj2" fmla="val 59271"/>
              <a:gd name="adj3" fmla="val 3474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2" idx="3"/>
            <a:endCxn id="204" idx="1"/>
          </p:cNvCxnSpPr>
          <p:nvPr/>
        </p:nvCxnSpPr>
        <p:spPr>
          <a:xfrm flipV="1">
            <a:off x="3214440" y="3771360"/>
            <a:ext cx="8103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5" idx="2"/>
            <a:endCxn id="201" idx="1"/>
          </p:cNvCxnSpPr>
          <p:nvPr/>
        </p:nvCxnSpPr>
        <p:spPr>
          <a:xfrm flipH="1" flipV="1" rot="5400000">
            <a:off x="2267640" y="1922760"/>
            <a:ext cx="518040" cy="1319760"/>
          </a:xfrm>
          <a:prstGeom prst="curvedConnector5">
            <a:avLst>
              <a:gd name="adj1" fmla="val -44158"/>
              <a:gd name="adj2" fmla="val 37517"/>
              <a:gd name="adj3" fmla="val -4415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7" idx="0"/>
            <a:endCxn id="204" idx="3"/>
          </p:cNvCxnSpPr>
          <p:nvPr/>
        </p:nvCxnSpPr>
        <p:spPr>
          <a:xfrm flipH="1" flipV="1" rot="5400000">
            <a:off x="5474160" y="4164480"/>
            <a:ext cx="876960" cy="91440"/>
          </a:xfrm>
          <a:prstGeom prst="curvedConnector5">
            <a:avLst>
              <a:gd name="adj1" fmla="val 34743"/>
              <a:gd name="adj2" fmla="val 168379"/>
              <a:gd name="adj3" fmla="val 3474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2" idx="0"/>
            <a:endCxn id="201" idx="2"/>
          </p:cNvCxnSpPr>
          <p:nvPr/>
        </p:nvCxnSpPr>
        <p:spPr>
          <a:xfrm flipH="1" flipV="1" rot="5400000">
            <a:off x="2681280" y="2171520"/>
            <a:ext cx="1038600" cy="190584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endCxn id="201" idx="0"/>
          </p:cNvCxnSpPr>
          <p:nvPr/>
        </p:nvCxnSpPr>
        <p:spPr>
          <a:xfrm flipV="1" rot="10800000">
            <a:off x="4152960" y="1865880"/>
            <a:ext cx="2171880" cy="17676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4" idx="2"/>
            <a:endCxn id="202" idx="2"/>
          </p:cNvCxnSpPr>
          <p:nvPr/>
        </p:nvCxnSpPr>
        <p:spPr>
          <a:xfrm rot="5400000">
            <a:off x="3542760" y="2757240"/>
            <a:ext cx="153000" cy="2743920"/>
          </a:xfrm>
          <a:prstGeom prst="curvedConnector5">
            <a:avLst>
              <a:gd name="adj1" fmla="val 240566"/>
              <a:gd name="adj2" fmla="val 49993"/>
              <a:gd name="adj3" fmla="val 24056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6" idx="1"/>
            <a:endCxn id="203" idx="2"/>
          </p:cNvCxnSpPr>
          <p:nvPr/>
        </p:nvCxnSpPr>
        <p:spPr>
          <a:xfrm rot="10800000">
            <a:off x="6971760" y="3366360"/>
            <a:ext cx="419760" cy="10072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03" idx="0"/>
            <a:endCxn id="201" idx="3"/>
          </p:cNvCxnSpPr>
          <p:nvPr/>
        </p:nvCxnSpPr>
        <p:spPr>
          <a:xfrm flipV="1" rot="16200000">
            <a:off x="5805000" y="1637640"/>
            <a:ext cx="481680" cy="185364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4" idx="0"/>
            <a:endCxn id="203" idx="1"/>
          </p:cNvCxnSpPr>
          <p:nvPr/>
        </p:nvCxnSpPr>
        <p:spPr>
          <a:xfrm flipH="1" flipV="1" rot="5400000">
            <a:off x="5295600" y="2781000"/>
            <a:ext cx="405360" cy="10152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19" name="slimtoplcd_s" descr=""/>
          <p:cNvPicPr/>
          <p:nvPr/>
        </p:nvPicPr>
        <p:blipFill>
          <a:blip r:embed="rId6"/>
          <a:stretch/>
        </p:blipFill>
        <p:spPr>
          <a:xfrm>
            <a:off x="6324480" y="13716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eb Servic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1981080"/>
            <a:ext cx="1676520" cy="685800"/>
          </a:xfrm>
          <a:prstGeom prst="cloudCallout">
            <a:avLst>
              <a:gd name="adj1" fmla="val -2652"/>
              <a:gd name="adj2" fmla="val -462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3505320"/>
            <a:ext cx="1676520" cy="685800"/>
          </a:xfrm>
          <a:prstGeom prst="cloudCallout">
            <a:avLst>
              <a:gd name="adj1" fmla="val -2652"/>
              <a:gd name="adj2" fmla="val -462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4114800"/>
            <a:ext cx="1676160" cy="685800"/>
          </a:xfrm>
          <a:prstGeom prst="cloudCallout">
            <a:avLst>
              <a:gd name="adj1" fmla="val -2652"/>
              <a:gd name="adj2" fmla="val -462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5029200"/>
            <a:ext cx="1981080" cy="762120"/>
          </a:xfrm>
          <a:prstGeom prst="cloudCallout">
            <a:avLst>
              <a:gd name="adj1" fmla="val -9935"/>
              <a:gd name="adj2" fmla="val -9166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R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1905120"/>
            <a:ext cx="1981080" cy="761760"/>
          </a:xfrm>
          <a:prstGeom prst="cloudCallout">
            <a:avLst>
              <a:gd name="adj1" fmla="val -9935"/>
              <a:gd name="adj2" fmla="val -9166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R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5029200"/>
            <a:ext cx="1981080" cy="762120"/>
          </a:xfrm>
          <a:prstGeom prst="cloudCallout">
            <a:avLst>
              <a:gd name="adj1" fmla="val -9935"/>
              <a:gd name="adj2" fmla="val -9166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R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3581280"/>
            <a:ext cx="1981080" cy="762120"/>
          </a:xfrm>
          <a:prstGeom prst="cloudCallout">
            <a:avLst>
              <a:gd name="adj1" fmla="val 11699"/>
              <a:gd name="adj2" fmla="val -22916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R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62720" y="2895480"/>
            <a:ext cx="1981080" cy="762120"/>
          </a:xfrm>
          <a:prstGeom prst="cloudCallout">
            <a:avLst>
              <a:gd name="adj1" fmla="val 4328"/>
              <a:gd name="adj2" fmla="val 1937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R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1" idx="0"/>
            <a:endCxn id="223" idx="0"/>
          </p:cNvCxnSpPr>
          <p:nvPr/>
        </p:nvCxnSpPr>
        <p:spPr>
          <a:xfrm flipH="1" rot="16200000">
            <a:off x="3294000" y="2191320"/>
            <a:ext cx="1488240" cy="2439000"/>
          </a:xfrm>
          <a:prstGeom prst="curvedConnector5">
            <a:avLst>
              <a:gd name="adj1" fmla="val 48657"/>
              <a:gd name="adj2" fmla="val 50000"/>
              <a:gd name="adj3" fmla="val 48657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0" name=""/>
          <p:cNvCxnSpPr>
            <a:stCxn id="222" idx="0"/>
            <a:endCxn id="223" idx="1"/>
          </p:cNvCxnSpPr>
          <p:nvPr/>
        </p:nvCxnSpPr>
        <p:spPr>
          <a:xfrm flipV="1" rot="10800000">
            <a:off x="5257080" y="3847680"/>
            <a:ext cx="1986840" cy="953280"/>
          </a:xfrm>
          <a:prstGeom prst="curvedConnector5">
            <a:avLst>
              <a:gd name="adj1" fmla="val 29014"/>
              <a:gd name="adj2" fmla="val 61994"/>
              <a:gd name="adj3" fmla="val 29014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1" name=""/>
          <p:cNvCxnSpPr>
            <a:stCxn id="221" idx="1"/>
            <a:endCxn id="222" idx="1"/>
          </p:cNvCxnSpPr>
          <p:nvPr/>
        </p:nvCxnSpPr>
        <p:spPr>
          <a:xfrm flipH="1" rot="16200000">
            <a:off x="4686120" y="153000"/>
            <a:ext cx="1524600" cy="5258520"/>
          </a:xfrm>
          <a:prstGeom prst="curvedConnector5">
            <a:avLst>
              <a:gd name="adj1" fmla="val -17595"/>
              <a:gd name="adj2" fmla="val 50000"/>
              <a:gd name="adj3" fmla="val -1759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2" name=""/>
          <p:cNvCxnSpPr>
            <a:stCxn id="224" idx="0"/>
            <a:endCxn id="225" idx="0"/>
          </p:cNvCxnSpPr>
          <p:nvPr/>
        </p:nvCxnSpPr>
        <p:spPr>
          <a:xfrm flipH="1" flipV="1" rot="5400000">
            <a:off x="1794240" y="3386520"/>
            <a:ext cx="3504240" cy="1302480"/>
          </a:xfrm>
          <a:prstGeom prst="curvedConnector5">
            <a:avLst>
              <a:gd name="adj1" fmla="val -5938"/>
              <a:gd name="adj2" fmla="val 50898"/>
              <a:gd name="adj3" fmla="val -5938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3" name=""/>
          <p:cNvCxnSpPr>
            <a:stCxn id="227" idx="0"/>
            <a:endCxn id="226" idx="0"/>
          </p:cNvCxnSpPr>
          <p:nvPr/>
        </p:nvCxnSpPr>
        <p:spPr>
          <a:xfrm flipH="1" rot="16200000">
            <a:off x="4268520" y="2738520"/>
            <a:ext cx="1068480" cy="42739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34" name=""/>
          <p:cNvCxnSpPr>
            <a:stCxn id="224" idx="1"/>
            <a:endCxn id="226" idx="1"/>
          </p:cNvCxnSpPr>
          <p:nvPr/>
        </p:nvCxnSpPr>
        <p:spPr>
          <a:xfrm>
            <a:off x="3884760" y="5410080"/>
            <a:ext cx="4040280" cy="380160"/>
          </a:xfrm>
          <a:prstGeom prst="curvedConnector5">
            <a:avLst>
              <a:gd name="adj1" fmla="val 37756"/>
              <a:gd name="adj2" fmla="val 80284"/>
              <a:gd name="adj3" fmla="val 37756"/>
            </a:avLst>
          </a:prstGeom>
          <a:ln w="50760">
            <a:solidFill>
              <a:srgbClr val="ff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3429000" y="2819520"/>
            <a:ext cx="2057400" cy="1218960"/>
          </a:xfrm>
          <a:prstGeom prst="wedgeRoundRectCallout">
            <a:avLst>
              <a:gd name="adj1" fmla="val -5787"/>
              <a:gd name="adj2" fmla="val 154296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RBA implementations are not compat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457200"/>
            <a:ext cx="1828800" cy="1066680"/>
          </a:xfrm>
          <a:prstGeom prst="wedgeRoundRectCallout">
            <a:avLst>
              <a:gd name="adj1" fmla="val -39148"/>
              <a:gd name="adj2" fmla="val 96726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COM location transparency does not hold on the we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27" idx="1"/>
            <a:endCxn id="221" idx="2"/>
          </p:cNvCxnSpPr>
          <p:nvPr/>
        </p:nvCxnSpPr>
        <p:spPr>
          <a:xfrm flipH="1" rot="10800000">
            <a:off x="1681560" y="2323440"/>
            <a:ext cx="304200" cy="1639080"/>
          </a:xfrm>
          <a:prstGeom prst="curvedConnector5">
            <a:avLst>
              <a:gd name="adj1" fmla="val -77369"/>
              <a:gd name="adj2" fmla="val 50000"/>
              <a:gd name="adj3" fmla="val -77369"/>
            </a:avLst>
          </a:prstGeom>
          <a:ln w="50760">
            <a:solidFill>
              <a:srgbClr val="ff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304920" y="4419720"/>
            <a:ext cx="2057400" cy="761760"/>
          </a:xfrm>
          <a:prstGeom prst="wedgeRoundRectCallout">
            <a:avLst>
              <a:gd name="adj1" fmla="val 5171"/>
              <a:gd name="adj2" fmla="val -200000"/>
              <a:gd name="adj3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RBA and DCOM are not compat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eb Servic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4326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ality for development and management of .NET servic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Center 2000: Extreme reliability and scalabi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Security &amp; Acceleration Server: Firewall and proxy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erce Server: analyzing site usag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zTalk Server 2000: Business process orchestration &amp; Business-to-business document interchange using XM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Server 2000: Easy-to-use database systems with native Extensible Markup Language (XML) suppor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st Integration Server 2000: Integration with host systems and their 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bile Information 2001 Server: Integration with mobile devic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895480" y="3962520"/>
            <a:ext cx="3505320" cy="1752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.NET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2120" y="1676520"/>
            <a:ext cx="7772400" cy="3979080"/>
            <a:chOff x="762120" y="1676520"/>
            <a:chExt cx="7772400" cy="3979080"/>
          </a:xfrm>
        </p:grpSpPr>
        <p:sp>
          <p:nvSpPr>
            <p:cNvPr id="244" name=""/>
            <p:cNvSpPr/>
            <p:nvPr/>
          </p:nvSpPr>
          <p:spPr>
            <a:xfrm>
              <a:off x="2976480" y="3971160"/>
              <a:ext cx="3348000" cy="168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mpler programming 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1480" y="1676520"/>
              <a:ext cx="3353040" cy="1600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eb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1676520"/>
              <a:ext cx="3352680" cy="160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y 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7" name=""/>
            <p:cNvCxnSpPr>
              <a:stCxn id="246" idx="4"/>
              <a:endCxn id="244" idx="1"/>
            </p:cNvCxnSpPr>
            <p:nvPr/>
          </p:nvCxnSpPr>
          <p:spPr>
            <a:xfrm>
              <a:off x="2438280" y="3276720"/>
              <a:ext cx="1029600" cy="953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8" name=""/>
            <p:cNvCxnSpPr>
              <a:stCxn id="245" idx="4"/>
              <a:endCxn id="244" idx="7"/>
            </p:cNvCxnSpPr>
            <p:nvPr/>
          </p:nvCxnSpPr>
          <p:spPr>
            <a:xfrm flipH="1">
              <a:off x="5833800" y="3276720"/>
              <a:ext cx="1024560" cy="953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9" name=""/>
            <p:cNvCxnSpPr>
              <a:stCxn id="246" idx="6"/>
              <a:endCxn id="245" idx="2"/>
            </p:cNvCxnSpPr>
            <p:nvPr/>
          </p:nvCxnSpPr>
          <p:spPr>
            <a:xfrm>
              <a:off x="4114440" y="2476080"/>
              <a:ext cx="106740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impler programming mode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2200" y="1676520"/>
            <a:ext cx="26938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Verdana"/>
              </a:rPr>
              <a:t>Component</a:t>
            </a:r>
            <a:br>
              <a:rPr sz="3400"/>
            </a:br>
            <a:r>
              <a:rPr b="1" lang="en-US" sz="3400" spc="-1" strike="noStrike">
                <a:solidFill>
                  <a:srgbClr val="ff3300"/>
                </a:solidFill>
                <a:latin typeface="Verdana"/>
              </a:rPr>
              <a:t>Based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3600" y="2008080"/>
            <a:ext cx="98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Verdana"/>
              </a:rPr>
              <a:t>Jav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1779480"/>
            <a:ext cx="1828800" cy="914400"/>
            <a:chOff x="990720" y="1779480"/>
            <a:chExt cx="1828800" cy="914400"/>
          </a:xfrm>
        </p:grpSpPr>
        <p:sp>
          <p:nvSpPr>
            <p:cNvPr id="254" name=""/>
            <p:cNvSpPr/>
            <p:nvPr/>
          </p:nvSpPr>
          <p:spPr>
            <a:xfrm>
              <a:off x="1067040" y="1779480"/>
              <a:ext cx="1600200" cy="9144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990720" y="2008080"/>
              <a:ext cx="1828800" cy="3808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105520" y="1932120"/>
            <a:ext cx="1828800" cy="914400"/>
            <a:chOff x="5105520" y="1932120"/>
            <a:chExt cx="1828800" cy="914400"/>
          </a:xfrm>
        </p:grpSpPr>
        <p:sp>
          <p:nvSpPr>
            <p:cNvPr id="257" name=""/>
            <p:cNvSpPr/>
            <p:nvPr/>
          </p:nvSpPr>
          <p:spPr>
            <a:xfrm>
              <a:off x="5181840" y="1932120"/>
              <a:ext cx="1600200" cy="9144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105520" y="2160720"/>
              <a:ext cx="1828800" cy="3808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165640" y="2846520"/>
            <a:ext cx="669960" cy="550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#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3151080"/>
            <a:ext cx="3505320" cy="1600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Object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Oriented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4903920"/>
            <a:ext cx="1676520" cy="5331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++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0760" y="4218120"/>
            <a:ext cx="1538640" cy="550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yth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12600" y="4218120"/>
            <a:ext cx="935280" cy="550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Per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6120" y="2846520"/>
            <a:ext cx="1252080" cy="550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obo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45880" y="3532320"/>
            <a:ext cx="1584360" cy="550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Haskel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21440" y="4979880"/>
            <a:ext cx="685080" cy="550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VB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431200" cy="69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Simpler programming model</a:t>
            </a: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415360" cy="1921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100000"/>
              </a:lnSpc>
              <a:buClr>
                <a:srgbClr val="f3a055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oss-language implementation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buClr>
                <a:srgbClr val="f3a055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oss-language exception hand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buClr>
                <a:srgbClr val="f3a055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oss-language debugg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buClr>
                <a:srgbClr val="f3a055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P+ pages in any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buClr>
                <a:srgbClr val="f3a055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ent-side scripts in any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3733920"/>
            <a:ext cx="761976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a055"/>
                </a:solidFill>
                <a:latin typeface="Verdana"/>
              </a:rPr>
              <a:t>Languages inclu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3a05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l, Python, COBOL, Pascal, Oberon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3a05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skell, Mercury, Eiffel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3a05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, C++,C#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609588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3a055"/>
                </a:solidFill>
                <a:latin typeface="Arial"/>
              </a:rPr>
              <a:t>.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NET and C#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6f6f"/>
                </a:solidFill>
                <a:latin typeface="Arial"/>
              </a:rPr>
              <a:t>.NE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Versioning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22960" y="4051440"/>
            <a:ext cx="1643760" cy="580680"/>
          </a:xfrm>
          <a:prstGeom prst="rect">
            <a:avLst/>
          </a:prstGeom>
          <a:solidFill>
            <a:srgbClr val="006ca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 194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5562720"/>
            <a:ext cx="3581640" cy="1066680"/>
          </a:xfrm>
          <a:prstGeom prst="wedgeRoundRectCallout">
            <a:avLst>
              <a:gd name="adj1" fmla="val 2217"/>
              <a:gd name="adj2" fmla="val -86162"/>
              <a:gd name="adj3" fmla="val 16667"/>
            </a:avLst>
          </a:pr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lementation relied on “secret” API removed in new ver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1520" y="4051440"/>
            <a:ext cx="1643760" cy="580680"/>
          </a:xfrm>
          <a:prstGeom prst="rect">
            <a:avLst/>
          </a:prstGeom>
          <a:solidFill>
            <a:srgbClr val="006ca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X.dl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1905120"/>
            <a:ext cx="2286000" cy="838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fice 200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2"/>
            <a:endCxn id="273" idx="0"/>
          </p:cNvCxnSpPr>
          <p:nvPr/>
        </p:nvCxnSpPr>
        <p:spPr>
          <a:xfrm flipH="1" rot="16200000">
            <a:off x="2945520" y="2628720"/>
            <a:ext cx="1270800" cy="152460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5257800" y="1905120"/>
            <a:ext cx="2286000" cy="838080"/>
          </a:xfrm>
          <a:prstGeom prst="rect">
            <a:avLst/>
          </a:prstGeom>
          <a:solidFill>
            <a:srgbClr val="00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cac"/>
                </a:solidFill>
                <a:latin typeface="Verdana"/>
              </a:rPr>
              <a:t>Leisure suit </a:t>
            </a:r>
            <a:br>
              <a:rPr sz="2400"/>
            </a:br>
            <a:r>
              <a:rPr b="0" lang="en-US" sz="2400" spc="-1" strike="noStrike">
                <a:solidFill>
                  <a:srgbClr val="006cac"/>
                </a:solidFill>
                <a:latin typeface="Verdana"/>
              </a:rPr>
              <a:t>La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2"/>
            <a:endCxn id="271" idx="3"/>
          </p:cNvCxnSpPr>
          <p:nvPr/>
        </p:nvCxnSpPr>
        <p:spPr>
          <a:xfrm rot="5400000">
            <a:off x="5004360" y="2946240"/>
            <a:ext cx="1586880" cy="120564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400800" y="4191120"/>
            <a:ext cx="2286000" cy="838080"/>
          </a:xfrm>
          <a:prstGeom prst="rect">
            <a:avLst/>
          </a:prstGeom>
          <a:solidFill>
            <a:srgbClr val="ff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2"/>
            <a:endCxn id="273" idx="2"/>
          </p:cNvCxnSpPr>
          <p:nvPr/>
        </p:nvCxnSpPr>
        <p:spPr>
          <a:xfrm flipV="1" rot="16200000">
            <a:off x="5751000" y="3248640"/>
            <a:ext cx="384840" cy="3201120"/>
          </a:xfrm>
          <a:prstGeom prst="curvedConnector5">
            <a:avLst>
              <a:gd name="adj1" fmla="val -56179"/>
              <a:gd name="adj2" fmla="val 49994"/>
              <a:gd name="adj3" fmla="val -5617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 flipH="1">
            <a:off x="227880" y="3581280"/>
            <a:ext cx="2895480" cy="1828800"/>
          </a:xfrm>
          <a:prstGeom prst="wedgeRoundRectCallout">
            <a:avLst>
              <a:gd name="adj1" fmla="val -66393"/>
              <a:gd name="adj2" fmla="val -56254"/>
              <a:gd name="adj3" fmla="val 16667"/>
            </a:avLst>
          </a:prstGeom>
          <a:solidFill>
            <a:srgbClr val="00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programmer was aware of a bug and thought he was smart to use the fea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693432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hat else...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415360" cy="348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ee stand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wards compat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ts of code ready to 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he .NET evolution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486400" y="1143000"/>
            <a:ext cx="3200400" cy="4487760"/>
            <a:chOff x="5486400" y="1143000"/>
            <a:chExt cx="3200400" cy="4487760"/>
          </a:xfrm>
        </p:grpSpPr>
        <p:grpSp>
          <p:nvGrpSpPr>
            <p:cNvPr id="286" name=""/>
            <p:cNvGrpSpPr/>
            <p:nvPr/>
          </p:nvGrpSpPr>
          <p:grpSpPr>
            <a:xfrm>
              <a:off x="5486400" y="2438280"/>
              <a:ext cx="3200400" cy="3192480"/>
              <a:chOff x="5486400" y="2438280"/>
              <a:chExt cx="3200400" cy="319248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>
                <a:lum bright="12000"/>
              </a:blip>
              <a:stretch/>
            </p:blipFill>
            <p:spPr>
              <a:xfrm>
                <a:off x="5486400" y="2438280"/>
                <a:ext cx="3200400" cy="319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" descr=""/>
              <p:cNvPicPr/>
              <p:nvPr/>
            </p:nvPicPr>
            <p:blipFill>
              <a:blip r:embed="rId3">
                <a:lum bright="-12000"/>
              </a:blip>
              <a:stretch/>
            </p:blipFill>
            <p:spPr>
              <a:xfrm>
                <a:off x="5529240" y="39862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4">
                <a:lum bright="-12000"/>
              </a:blip>
              <a:stretch/>
            </p:blipFill>
            <p:spPr>
              <a:xfrm>
                <a:off x="5529240" y="26146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5">
                <a:lum bright="-12000"/>
              </a:blip>
              <a:stretch/>
            </p:blipFill>
            <p:spPr>
              <a:xfrm>
                <a:off x="5529240" y="30718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1" name="" descr=""/>
              <p:cNvPicPr/>
              <p:nvPr/>
            </p:nvPicPr>
            <p:blipFill>
              <a:blip r:embed="rId6">
                <a:lum bright="-12000"/>
              </a:blip>
              <a:stretch/>
            </p:blipFill>
            <p:spPr>
              <a:xfrm>
                <a:off x="5529240" y="35290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2" name="" descr=""/>
              <p:cNvPicPr/>
              <p:nvPr/>
            </p:nvPicPr>
            <p:blipFill>
              <a:blip r:embed="rId7">
                <a:lum bright="-12000"/>
              </a:blip>
              <a:stretch/>
            </p:blipFill>
            <p:spPr>
              <a:xfrm>
                <a:off x="5529240" y="44434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5562720" y="25909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User Experien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62720" y="35053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XML Sto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62720" y="394668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Building Block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648040" y="4378680"/>
                <a:ext cx="272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PC and other devic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62720" y="303228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Universal Canva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91320" y="4954680"/>
                <a:ext cx="259056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 Narrow"/>
                  </a:rPr>
                  <a:t>.NET Platfor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5486400" y="1143000"/>
              <a:ext cx="1600200" cy="1368360"/>
              <a:chOff x="5486400" y="1143000"/>
              <a:chExt cx="1600200" cy="1368360"/>
            </a:xfrm>
          </p:grpSpPr>
          <p:pic>
            <p:nvPicPr>
              <p:cNvPr id="30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86400" y="1143000"/>
                <a:ext cx="160020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5668920" y="1449360"/>
                <a:ext cx="123516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MS Service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7162920" y="1143000"/>
              <a:ext cx="1523880" cy="1368360"/>
              <a:chOff x="7162920" y="1143000"/>
              <a:chExt cx="1523880" cy="1368360"/>
            </a:xfrm>
          </p:grpSpPr>
          <p:pic>
            <p:nvPicPr>
              <p:cNvPr id="30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62920" y="1143000"/>
                <a:ext cx="152388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7300800" y="1447560"/>
                <a:ext cx="124776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Partner Service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609480" y="1143000"/>
            <a:ext cx="3200400" cy="4487760"/>
            <a:chOff x="609480" y="1143000"/>
            <a:chExt cx="3200400" cy="4487760"/>
          </a:xfrm>
        </p:grpSpPr>
        <p:pic>
          <p:nvPicPr>
            <p:cNvPr id="306" name="" descr=""/>
            <p:cNvPicPr/>
            <p:nvPr/>
          </p:nvPicPr>
          <p:blipFill>
            <a:blip r:embed="rId10">
              <a:lum bright="18000"/>
            </a:blip>
            <a:stretch/>
          </p:blipFill>
          <p:spPr>
            <a:xfrm>
              <a:off x="609480" y="2438280"/>
              <a:ext cx="3200400" cy="31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11">
              <a:lum bright="-12000"/>
            </a:blip>
            <a:stretch/>
          </p:blipFill>
          <p:spPr>
            <a:xfrm>
              <a:off x="685800" y="39862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" descr=""/>
            <p:cNvPicPr/>
            <p:nvPr/>
          </p:nvPicPr>
          <p:blipFill>
            <a:blip r:embed="rId12">
              <a:lum bright="-12000"/>
            </a:blip>
            <a:stretch/>
          </p:blipFill>
          <p:spPr>
            <a:xfrm>
              <a:off x="685800" y="26146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" descr=""/>
            <p:cNvPicPr/>
            <p:nvPr/>
          </p:nvPicPr>
          <p:blipFill>
            <a:blip r:embed="rId13">
              <a:lum bright="-12000"/>
            </a:blip>
            <a:stretch/>
          </p:blipFill>
          <p:spPr>
            <a:xfrm>
              <a:off x="685800" y="30718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" descr=""/>
            <p:cNvPicPr/>
            <p:nvPr/>
          </p:nvPicPr>
          <p:blipFill>
            <a:blip r:embed="rId14">
              <a:lum bright="-12000"/>
            </a:blip>
            <a:stretch/>
          </p:blipFill>
          <p:spPr>
            <a:xfrm>
              <a:off x="685800" y="35290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15">
              <a:lum bright="-12000"/>
            </a:blip>
            <a:stretch/>
          </p:blipFill>
          <p:spPr>
            <a:xfrm>
              <a:off x="685800" y="44434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762120" y="3946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P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2120" y="25909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User Inter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2120" y="35053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File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2120" y="44197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120" y="30322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ompound Docu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9200" y="4940280"/>
              <a:ext cx="31240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Narrow"/>
                </a:rPr>
                <a:t>Windows Platfo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609480" y="1143000"/>
              <a:ext cx="1600200" cy="1368360"/>
              <a:chOff x="609480" y="1143000"/>
              <a:chExt cx="1600200" cy="136836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09480" y="1143000"/>
                <a:ext cx="160020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803160" y="1449360"/>
                <a:ext cx="121140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MS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App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2286000" y="1143000"/>
              <a:ext cx="1523880" cy="1368360"/>
              <a:chOff x="2286000" y="1143000"/>
              <a:chExt cx="1523880" cy="136836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86000" y="1143000"/>
                <a:ext cx="152388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2438280" y="1447560"/>
                <a:ext cx="121932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Partner App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24" name="" descr=""/>
          <p:cNvPicPr/>
          <p:nvPr/>
        </p:nvPicPr>
        <p:blipFill>
          <a:blip r:embed="rId18"/>
          <a:stretch/>
        </p:blipFill>
        <p:spPr>
          <a:xfrm>
            <a:off x="4038480" y="312408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914400" y="5707080"/>
            <a:ext cx="73152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3a055"/>
                </a:solidFill>
                <a:latin typeface="Arial"/>
              </a:rPr>
              <a:t>DOS </a:t>
            </a:r>
            <a:r>
              <a:rPr b="1" i="1" lang="en-US" sz="3200" spc="-1" strike="noStrike">
                <a:solidFill>
                  <a:srgbClr val="f3a055"/>
                </a:solidFill>
                <a:latin typeface="Symbol"/>
                <a:ea typeface="Symbol"/>
              </a:rPr>
              <a:t></a:t>
            </a:r>
            <a:r>
              <a:rPr b="1" i="1" lang="en-US" sz="3200" spc="-1" strike="noStrike">
                <a:solidFill>
                  <a:srgbClr val="f3a055"/>
                </a:solidFill>
                <a:latin typeface="Arial"/>
              </a:rPr>
              <a:t> Windows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3a055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3a055"/>
                </a:solidFill>
                <a:latin typeface="Arial"/>
              </a:rPr>
              <a:t>Windows </a:t>
            </a:r>
            <a:r>
              <a:rPr b="1" i="1" lang="en-US" sz="3200" spc="-1" strike="noStrike">
                <a:solidFill>
                  <a:srgbClr val="f3a055"/>
                </a:solidFill>
                <a:latin typeface="Symbol"/>
                <a:ea typeface="Symbol"/>
              </a:rPr>
              <a:t></a:t>
            </a:r>
            <a:r>
              <a:rPr b="1" i="1" lang="en-US" sz="3200" spc="-1" strike="noStrike">
                <a:solidFill>
                  <a:srgbClr val="f3a055"/>
                </a:solidFill>
                <a:latin typeface="Arial"/>
              </a:rPr>
              <a:t> .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.NET and C#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531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05320" y="2286000"/>
            <a:ext cx="76197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6f6f"/>
                </a:solidFill>
                <a:latin typeface="Arial"/>
              </a:rPr>
              <a:t>C#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C#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62200" y="1523880"/>
            <a:ext cx="69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No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MS alternative for Jav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64280" y="2498760"/>
            <a:ext cx="722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Language for programm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.NET frame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9520" y="4038480"/>
            <a:ext cx="70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Which is MS alternative fo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JVM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Hello World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16040" y="1752480"/>
            <a:ext cx="7498800" cy="32007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class He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static void Main(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Console.WriteLine("Hello world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343400" y="4724280"/>
            <a:ext cx="4343400" cy="518040"/>
          </a:xfrm>
          <a:prstGeom prst="rect">
            <a:avLst/>
          </a:prstGeom>
          <a:gradFill rotWithShape="0">
            <a:gsLst>
              <a:gs pos="0">
                <a:srgbClr val="4f3459"/>
              </a:gs>
              <a:gs pos="100000">
                <a:srgbClr val="ad72c2"/>
              </a:gs>
            </a:gsLst>
            <a:lin ang="5400000"/>
          </a:gradFill>
          <a:ln w="12600">
            <a:solidFill>
              <a:srgbClr val="ad7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sc HelloWorld.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5280" y="5105520"/>
            <a:ext cx="4343400" cy="518040"/>
          </a:xfrm>
          <a:prstGeom prst="rect">
            <a:avLst/>
          </a:prstGeom>
          <a:gradFill rotWithShape="0">
            <a:gsLst>
              <a:gs pos="0">
                <a:srgbClr val="4f3459"/>
              </a:gs>
              <a:gs pos="100000">
                <a:srgbClr val="ad72c2"/>
              </a:gs>
            </a:gsLst>
            <a:lin ang="5400000"/>
          </a:gradFill>
          <a:ln w="12600">
            <a:solidFill>
              <a:srgbClr val="ad7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ildasm HelloWorld.ex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2520" y="1981080"/>
            <a:ext cx="673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3a055"/>
                </a:solidFill>
                <a:latin typeface="Arial"/>
              </a:rPr>
              <a:t>DEMO</a:t>
            </a:r>
            <a:endParaRPr b="0" lang="en-US" sz="1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380880" y="1415520"/>
            <a:ext cx="8415360" cy="4414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mespa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055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namespa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decla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sses, interfaces, structs, enums, deleg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elds,methods, constants, </a:t>
            </a:r>
            <a:r>
              <a:rPr b="1" lang="en-US" sz="2800" spc="-1" strike="noStrike">
                <a:solidFill>
                  <a:srgbClr val="f3a055"/>
                </a:solidFill>
                <a:latin typeface="Arial"/>
              </a:rPr>
              <a:t>propert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events, </a:t>
            </a:r>
            <a:r>
              <a:rPr b="1" lang="en-US" sz="2800" spc="-1" strike="noStrike">
                <a:solidFill>
                  <a:srgbClr val="f3a055"/>
                </a:solidFill>
                <a:latin typeface="Arial"/>
              </a:rPr>
              <a:t>index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operators, constructors, destruc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1523880"/>
            <a:ext cx="4038840" cy="609840"/>
          </a:xfrm>
          <a:prstGeom prst="cloudCallout">
            <a:avLst>
              <a:gd name="adj1" fmla="val -38717"/>
              <a:gd name="adj2" fmla="val 52342"/>
            </a:avLst>
          </a:prstGeom>
          <a:solidFill>
            <a:srgbClr val="006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ck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3581280"/>
            <a:ext cx="4038480" cy="609840"/>
          </a:xfrm>
          <a:prstGeom prst="cloudCallout">
            <a:avLst>
              <a:gd name="adj1" fmla="val -51060"/>
              <a:gd name="adj2" fmla="val -36199"/>
            </a:avLst>
          </a:prstGeom>
          <a:solidFill>
            <a:srgbClr val="006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ner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5562720"/>
            <a:ext cx="4038840" cy="609480"/>
          </a:xfrm>
          <a:prstGeom prst="cloudCallout">
            <a:avLst>
              <a:gd name="adj1" fmla="val -12657"/>
              <a:gd name="adj2" fmla="val -131250"/>
            </a:avLst>
          </a:prstGeom>
          <a:solidFill>
            <a:srgbClr val="006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ava Be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5867280"/>
            <a:ext cx="4724280" cy="609840"/>
          </a:xfrm>
          <a:prstGeom prst="cloudCallout">
            <a:avLst>
              <a:gd name="adj1" fmla="val 35115"/>
              <a:gd name="adj2" fmla="val -64324"/>
            </a:avLst>
          </a:prstGeom>
          <a:solidFill>
            <a:srgbClr val="006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oid finalize 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C# Program Structure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Boxing/Unboxing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415360" cy="215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cates box, copies value into 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box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s type of box, copies value ou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2200" y="3808800"/>
            <a:ext cx="246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int i = 123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object o =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int j = (int)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41320" y="4827960"/>
            <a:ext cx="857520" cy="39888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1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6520" y="4840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41320" y="5416560"/>
            <a:ext cx="857520" cy="42228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06520" y="54410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5416560"/>
            <a:ext cx="857520" cy="422280"/>
          </a:xfrm>
          <a:prstGeom prst="rect">
            <a:avLst/>
          </a:prstGeom>
          <a:gradFill rotWithShape="0">
            <a:gsLst>
              <a:gs pos="0">
                <a:srgbClr val="4f3459"/>
              </a:gs>
              <a:gs pos="100000">
                <a:srgbClr val="ad72c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352680" y="5850360"/>
            <a:ext cx="857520" cy="39888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1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49560" y="5610240"/>
            <a:ext cx="12110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0800" y="5428080"/>
            <a:ext cx="2133720" cy="398880"/>
          </a:xfrm>
          <a:prstGeom prst="rect">
            <a:avLst/>
          </a:prstGeom>
          <a:gradFill rotWithShape="0">
            <a:gsLst>
              <a:gs pos="0">
                <a:srgbClr val="4f3459"/>
              </a:gs>
              <a:gs pos="100000">
                <a:srgbClr val="ad72c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System.Int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49760" y="5610240"/>
            <a:ext cx="121104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741320" y="6012360"/>
            <a:ext cx="857520" cy="39888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1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06520" y="6025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Value Typ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3265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truct Point { int x, y;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 i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um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9880" indent="-446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num State { Off, On 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4800600"/>
            <a:ext cx="4876560" cy="1143000"/>
          </a:xfrm>
          <a:prstGeom prst="cloudCallout">
            <a:avLst>
              <a:gd name="adj1" fmla="val -105990"/>
              <a:gd name="adj2" fmla="val -78055"/>
            </a:avLst>
          </a:prstGeom>
          <a:solidFill>
            <a:srgbClr val="006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rything is really an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Refrence typ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egate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ray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The .NET Evolution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86400" y="1143000"/>
            <a:ext cx="3200400" cy="4487760"/>
            <a:chOff x="5486400" y="1143000"/>
            <a:chExt cx="3200400" cy="4487760"/>
          </a:xfrm>
        </p:grpSpPr>
        <p:grpSp>
          <p:nvGrpSpPr>
            <p:cNvPr id="48" name=""/>
            <p:cNvGrpSpPr/>
            <p:nvPr/>
          </p:nvGrpSpPr>
          <p:grpSpPr>
            <a:xfrm>
              <a:off x="5486400" y="2438280"/>
              <a:ext cx="3200400" cy="3192480"/>
              <a:chOff x="5486400" y="2438280"/>
              <a:chExt cx="3200400" cy="3192480"/>
            </a:xfrm>
          </p:grpSpPr>
          <p:pic>
            <p:nvPicPr>
              <p:cNvPr id="49" name="" descr=""/>
              <p:cNvPicPr/>
              <p:nvPr/>
            </p:nvPicPr>
            <p:blipFill>
              <a:blip r:embed="rId2">
                <a:lum bright="12000"/>
              </a:blip>
              <a:stretch/>
            </p:blipFill>
            <p:spPr>
              <a:xfrm>
                <a:off x="5486400" y="2438280"/>
                <a:ext cx="3200400" cy="3192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3">
                <a:lum bright="-12000"/>
              </a:blip>
              <a:stretch/>
            </p:blipFill>
            <p:spPr>
              <a:xfrm>
                <a:off x="5529240" y="39862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4">
                <a:lum bright="-12000"/>
              </a:blip>
              <a:stretch/>
            </p:blipFill>
            <p:spPr>
              <a:xfrm>
                <a:off x="5529240" y="26146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5">
                <a:lum bright="-12000"/>
              </a:blip>
              <a:stretch/>
            </p:blipFill>
            <p:spPr>
              <a:xfrm>
                <a:off x="5529240" y="30718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6">
                <a:lum bright="-12000"/>
              </a:blip>
              <a:stretch/>
            </p:blipFill>
            <p:spPr>
              <a:xfrm>
                <a:off x="5529240" y="35290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7">
                <a:lum bright="-12000"/>
              </a:blip>
              <a:stretch/>
            </p:blipFill>
            <p:spPr>
              <a:xfrm>
                <a:off x="5529240" y="4443480"/>
                <a:ext cx="306540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5562720" y="25909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User Experien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562720" y="350532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XML Sto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562720" y="394668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Building Block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648040" y="4378680"/>
                <a:ext cx="272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PC and other device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562720" y="3032280"/>
                <a:ext cx="297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Universal Canva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91320" y="4954680"/>
                <a:ext cx="259056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 Narrow"/>
                  </a:rPr>
                  <a:t>.NET Platform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486400" y="1143000"/>
              <a:ext cx="1600200" cy="1368360"/>
              <a:chOff x="5486400" y="1143000"/>
              <a:chExt cx="1600200" cy="1368360"/>
            </a:xfrm>
          </p:grpSpPr>
          <p:pic>
            <p:nvPicPr>
              <p:cNvPr id="6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86400" y="1143000"/>
                <a:ext cx="160020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5668920" y="1449360"/>
                <a:ext cx="123516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MS Service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2920" y="1143000"/>
              <a:ext cx="1523880" cy="1368360"/>
              <a:chOff x="7162920" y="1143000"/>
              <a:chExt cx="1523880" cy="1368360"/>
            </a:xfrm>
          </p:grpSpPr>
          <p:pic>
            <p:nvPicPr>
              <p:cNvPr id="6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162920" y="1143000"/>
                <a:ext cx="152388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7300800" y="1447560"/>
                <a:ext cx="124776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Partner Service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" name=""/>
          <p:cNvGrpSpPr/>
          <p:nvPr/>
        </p:nvGrpSpPr>
        <p:grpSpPr>
          <a:xfrm>
            <a:off x="609480" y="1143000"/>
            <a:ext cx="3200400" cy="4487760"/>
            <a:chOff x="609480" y="1143000"/>
            <a:chExt cx="3200400" cy="4487760"/>
          </a:xfrm>
        </p:grpSpPr>
        <p:pic>
          <p:nvPicPr>
            <p:cNvPr id="68" name="" descr=""/>
            <p:cNvPicPr/>
            <p:nvPr/>
          </p:nvPicPr>
          <p:blipFill>
            <a:blip r:embed="rId10">
              <a:lum bright="18000"/>
            </a:blip>
            <a:stretch/>
          </p:blipFill>
          <p:spPr>
            <a:xfrm>
              <a:off x="609480" y="2438280"/>
              <a:ext cx="3200400" cy="31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1">
              <a:lum bright="-12000"/>
            </a:blip>
            <a:stretch/>
          </p:blipFill>
          <p:spPr>
            <a:xfrm>
              <a:off x="685800" y="39862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12">
              <a:lum bright="-12000"/>
            </a:blip>
            <a:stretch/>
          </p:blipFill>
          <p:spPr>
            <a:xfrm>
              <a:off x="685800" y="26146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13">
              <a:lum bright="-12000"/>
            </a:blip>
            <a:stretch/>
          </p:blipFill>
          <p:spPr>
            <a:xfrm>
              <a:off x="685800" y="30718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14">
              <a:lum bright="-12000"/>
            </a:blip>
            <a:stretch/>
          </p:blipFill>
          <p:spPr>
            <a:xfrm>
              <a:off x="685800" y="35290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5">
              <a:lum bright="-12000"/>
            </a:blip>
            <a:stretch/>
          </p:blipFill>
          <p:spPr>
            <a:xfrm>
              <a:off x="685800" y="4443480"/>
              <a:ext cx="30654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62120" y="3946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P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25909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User Interfa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35053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File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44197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30322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ompound Docu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9200" y="4940280"/>
              <a:ext cx="31240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 Narrow"/>
                </a:rPr>
                <a:t>Windows Platfor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09480" y="1143000"/>
              <a:ext cx="1600200" cy="1368360"/>
              <a:chOff x="609480" y="1143000"/>
              <a:chExt cx="1600200" cy="1368360"/>
            </a:xfrm>
          </p:grpSpPr>
          <p:pic>
            <p:nvPicPr>
              <p:cNvPr id="8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09480" y="1143000"/>
                <a:ext cx="160020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803160" y="1449360"/>
                <a:ext cx="121140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MS </a:t>
                </a:r>
                <a:br>
                  <a:rPr sz="2800"/>
                </a:b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App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286000" y="1143000"/>
              <a:ext cx="1523880" cy="1368360"/>
              <a:chOff x="2286000" y="1143000"/>
              <a:chExt cx="1523880" cy="1368360"/>
            </a:xfrm>
          </p:grpSpPr>
          <p:pic>
            <p:nvPicPr>
              <p:cNvPr id="8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86000" y="1143000"/>
                <a:ext cx="152388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2438280" y="1447560"/>
                <a:ext cx="1219320" cy="6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Narrow"/>
                  </a:rPr>
                  <a:t>Partner Apps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6" name="" descr=""/>
          <p:cNvPicPr/>
          <p:nvPr/>
        </p:nvPicPr>
        <p:blipFill>
          <a:blip r:embed="rId18"/>
          <a:stretch/>
        </p:blipFill>
        <p:spPr>
          <a:xfrm>
            <a:off x="4038480" y="3124080"/>
            <a:ext cx="1219320" cy="1295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14400" y="5707080"/>
            <a:ext cx="7315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3a055"/>
                </a:solidFill>
                <a:latin typeface="Arial"/>
              </a:rPr>
              <a:t>As big a transition as from </a:t>
            </a:r>
            <a:br>
              <a:rPr sz="3600"/>
            </a:br>
            <a:r>
              <a:rPr b="1" i="1" lang="en-US" sz="3600" spc="-1" strike="noStrike">
                <a:solidFill>
                  <a:srgbClr val="f3a055"/>
                </a:solidFill>
                <a:latin typeface="Arial"/>
              </a:rPr>
              <a:t>DOS to Wind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Unsafe code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415360" cy="28407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safe c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-level code without leaving the bo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es unsafe casts, pointer arithmet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larative pin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xed stat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7800" indent="-57780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ically “inline C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Unsafe code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" y="1219320"/>
            <a:ext cx="8381880" cy="44118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lass FileStream: Stre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int handl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ublic unsafe int Read(byte[] buffer, int index, int count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int n =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ixed (byte* p = buffer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ReadFile(handle, p + index, count, &amp;n, nul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return 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[dllimport("kernel32", SetLastError=true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tatic extern unsafe bool ReadFile(int hFil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oid* lpBuffer, int nBytesToRead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int* nBytesRead, Overlapped* lpOverlapped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Properti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0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are “smart fields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ural syntax, accessors, inl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2438280"/>
            <a:ext cx="5943600" cy="419004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Borrel {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rivate int star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ublic int Start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76f6f"/>
                </a:solidFill>
                <a:latin typeface="Lucida Console"/>
              </a:rPr>
              <a:t>get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return star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76f6f"/>
                </a:solidFill>
                <a:latin typeface="Lucida Console"/>
              </a:rPr>
              <a:t>set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f (value &lt; 1700 || </a:t>
            </a:r>
            <a:r>
              <a:rPr b="1" lang="en-US" sz="1600" spc="-1" strike="noStrike">
                <a:solidFill>
                  <a:srgbClr val="f3a055"/>
                </a:solidFill>
                <a:latin typeface="Lucida Console"/>
              </a:rPr>
              <a:t>value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&gt; 24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sole.WriteLine(“Invalided time”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tart = </a:t>
            </a:r>
            <a:r>
              <a:rPr b="1" lang="en-US" sz="1600" spc="-1" strike="noStrike">
                <a:solidFill>
                  <a:srgbClr val="f3a055"/>
                </a:solidFill>
                <a:latin typeface="Lucida Console"/>
              </a:rPr>
              <a:t>value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3581280"/>
            <a:ext cx="4724280" cy="210528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Demo {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ublic static Main () {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Borrel b = new Borrel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b.Start = 1745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nt start = b.Star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dexer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11768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77800" indent="-57780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xers are “smart arrays”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-45072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be overload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2438280"/>
            <a:ext cx="5943600" cy="392508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Borrel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rivate Dictionary participants;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ublic Borrel()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participants = new Dictionary(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ublic bool </a:t>
            </a:r>
            <a:r>
              <a:rPr b="1" lang="en-US" sz="1600" spc="-1" strike="noStrike">
                <a:solidFill>
                  <a:srgbClr val="f76f6f"/>
                </a:solidFill>
                <a:latin typeface="Lucida Console"/>
              </a:rPr>
              <a:t>this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</a:t>
            </a:r>
            <a:r>
              <a:rPr b="1" lang="en-US" sz="1600" spc="-1" strike="noStrike">
                <a:solidFill>
                  <a:srgbClr val="f76f6f"/>
                </a:solidFill>
                <a:latin typeface="Lucida Console"/>
              </a:rPr>
              <a:t>String name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]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get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return (participants.Contains(name)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&amp;&amp; (bool)participants[name]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set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participants.Add(name,value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3581280"/>
            <a:ext cx="4724280" cy="19782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Demo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ublic static void Main ()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Borrel b = new Borrel (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b[“Peter”] = true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Console.WriteLine(b[“Bill”]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Dogs Demo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76" name="dogforward" descr=""/>
          <p:cNvPicPr/>
          <p:nvPr/>
        </p:nvPicPr>
        <p:blipFill>
          <a:blip r:embed="rId2"/>
          <a:srcRect l="-4050" t="-4033" r="0" b="10578"/>
          <a:stretch/>
        </p:blipFill>
        <p:spPr>
          <a:xfrm>
            <a:off x="5410080" y="0"/>
            <a:ext cx="984240" cy="12952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705720" y="304920"/>
            <a:ext cx="1676160" cy="761760"/>
          </a:xfrm>
          <a:prstGeom prst="wedgeRoundRectCallout">
            <a:avLst>
              <a:gd name="adj1" fmla="val -76703"/>
              <a:gd name="adj2" fmla="val -27708"/>
              <a:gd name="adj3" fmla="val 16667"/>
            </a:avLst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cac"/>
                </a:solidFill>
                <a:latin typeface="Arial"/>
              </a:rPr>
              <a:t>Thanks Roger and Eric  Sessions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1295280"/>
            <a:ext cx="6324840" cy="36817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amespace VirtualDog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ublic class Dog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public </a:t>
            </a:r>
            <a:r>
              <a:rPr b="1" lang="en-US" sz="1600" spc="-1" strike="noStrike">
                <a:solidFill>
                  <a:srgbClr val="ff0000"/>
                </a:solidFill>
                <a:latin typeface="Lucida Console"/>
              </a:rPr>
              <a:t>virtual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void RollOver ()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Console.WriteLine("Scratch my tummy."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Bark(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}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public </a:t>
            </a:r>
            <a:r>
              <a:rPr b="1" lang="en-US" sz="1600" spc="-1" strike="noStrike">
                <a:solidFill>
                  <a:srgbClr val="ff0000"/>
                </a:solidFill>
                <a:latin typeface="Lucida Console"/>
              </a:rPr>
              <a:t>virtual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void Bark () {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Console.WriteLine("WOOF WOOF (Dog)"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71600" y="4343400"/>
            <a:ext cx="6553080" cy="222156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mports System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amespace VirtualDog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Public Class Mopje : Inherits Dog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Public overrides Sub Bark ()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Console.WriteLine("WOEF WOEF (Mopje)")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End Su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End Clas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End Namesp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2971800"/>
            <a:ext cx="3124080" cy="19782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mport VirtualDog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ar d = new Dog(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var m = new Mopje();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.RollOver()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m.RollOver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What more?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2303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sio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 comments (Demo?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itional compi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References and more info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3180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 session by Tony Goodhew,   TechEd 2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session Eric Meij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 session Eric Meij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www.cs.vu.nl/~pgroene/Vakken/Oop/oop.htm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Questions?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240" y="2590560"/>
            <a:ext cx="8915400" cy="64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Where do you what to go today?</a:t>
            </a:r>
            <a:endParaRPr b="1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600200"/>
            <a:ext cx="3505320" cy="17524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.NET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2120" y="1676520"/>
            <a:ext cx="7772400" cy="3979080"/>
            <a:chOff x="762120" y="1676520"/>
            <a:chExt cx="7772400" cy="3979080"/>
          </a:xfrm>
        </p:grpSpPr>
        <p:sp>
          <p:nvSpPr>
            <p:cNvPr id="91" name=""/>
            <p:cNvSpPr/>
            <p:nvPr/>
          </p:nvSpPr>
          <p:spPr>
            <a:xfrm>
              <a:off x="2976480" y="3971160"/>
              <a:ext cx="3348000" cy="168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mpler programming 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1480" y="1676520"/>
              <a:ext cx="3353040" cy="160020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eb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r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1676520"/>
              <a:ext cx="3352680" cy="160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y devi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93" idx="4"/>
              <a:endCxn id="91" idx="1"/>
            </p:cNvCxnSpPr>
            <p:nvPr/>
          </p:nvCxnSpPr>
          <p:spPr>
            <a:xfrm>
              <a:off x="2438280" y="3276720"/>
              <a:ext cx="1029600" cy="953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5" name=""/>
            <p:cNvCxnSpPr>
              <a:stCxn id="92" idx="4"/>
              <a:endCxn id="91" idx="7"/>
            </p:cNvCxnSpPr>
            <p:nvPr/>
          </p:nvCxnSpPr>
          <p:spPr>
            <a:xfrm flipH="1">
              <a:off x="5833800" y="3276720"/>
              <a:ext cx="1024560" cy="953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" name=""/>
            <p:cNvCxnSpPr>
              <a:stCxn id="93" idx="6"/>
              <a:endCxn id="92" idx="2"/>
            </p:cNvCxnSpPr>
            <p:nvPr/>
          </p:nvCxnSpPr>
          <p:spPr>
            <a:xfrm>
              <a:off x="4114440" y="2476080"/>
              <a:ext cx="106740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Many Devices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87400" y="1981080"/>
            <a:ext cx="1689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Verdana"/>
              </a:rPr>
              <a:t>Intel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40480" y="1981080"/>
            <a:ext cx="2134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Verdana"/>
              </a:rPr>
              <a:t>Win32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905120" y="2057400"/>
            <a:ext cx="1828800" cy="914400"/>
            <a:chOff x="1905120" y="2057400"/>
            <a:chExt cx="1828800" cy="914400"/>
          </a:xfrm>
        </p:grpSpPr>
        <p:sp>
          <p:nvSpPr>
            <p:cNvPr id="101" name=""/>
            <p:cNvSpPr/>
            <p:nvPr/>
          </p:nvSpPr>
          <p:spPr>
            <a:xfrm>
              <a:off x="1981440" y="2057400"/>
              <a:ext cx="1600200" cy="9144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905120" y="2286000"/>
              <a:ext cx="1828800" cy="3808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952880" y="2057400"/>
            <a:ext cx="1828800" cy="914400"/>
            <a:chOff x="4952880" y="2057400"/>
            <a:chExt cx="1828800" cy="914400"/>
          </a:xfrm>
        </p:grpSpPr>
        <p:sp>
          <p:nvSpPr>
            <p:cNvPr id="104" name=""/>
            <p:cNvSpPr/>
            <p:nvPr/>
          </p:nvSpPr>
          <p:spPr>
            <a:xfrm>
              <a:off x="5029200" y="2057400"/>
              <a:ext cx="1600200" cy="9144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4952880" y="2286000"/>
              <a:ext cx="1828800" cy="3808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07880" y="4038480"/>
            <a:ext cx="3271320" cy="855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Winform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62640" y="3581280"/>
            <a:ext cx="3291120" cy="1617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universal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Verdana"/>
              </a:rPr>
              <a:t>runtime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rmediate Language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415360" cy="969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languages are compiled to an intermediate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2438280"/>
            <a:ext cx="67816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rmediate Language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44920" y="1581120"/>
            <a:ext cx="1828800" cy="9144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uter Langu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400" y="4857840"/>
            <a:ext cx="1828800" cy="914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44920" y="4857840"/>
            <a:ext cx="18288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P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4857840"/>
            <a:ext cx="1828800" cy="9144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50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2" idx="3"/>
            <a:endCxn id="113" idx="0"/>
          </p:cNvCxnSpPr>
          <p:nvPr/>
        </p:nvCxnSpPr>
        <p:spPr>
          <a:xfrm flipH="1">
            <a:off x="1639080" y="2362320"/>
            <a:ext cx="2174040" cy="24962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17" name=""/>
          <p:cNvCxnSpPr>
            <a:stCxn id="112" idx="4"/>
            <a:endCxn id="114" idx="0"/>
          </p:cNvCxnSpPr>
          <p:nvPr/>
        </p:nvCxnSpPr>
        <p:spPr>
          <a:xfrm>
            <a:off x="4458960" y="2495520"/>
            <a:ext cx="1080" cy="23630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18" name=""/>
          <p:cNvCxnSpPr>
            <a:stCxn id="112" idx="5"/>
            <a:endCxn id="115" idx="0"/>
          </p:cNvCxnSpPr>
          <p:nvPr/>
        </p:nvCxnSpPr>
        <p:spPr>
          <a:xfrm>
            <a:off x="5105520" y="2362320"/>
            <a:ext cx="2326320" cy="24962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grpSp>
        <p:nvGrpSpPr>
          <p:cNvPr id="119" name=""/>
          <p:cNvGrpSpPr/>
          <p:nvPr/>
        </p:nvGrpSpPr>
        <p:grpSpPr>
          <a:xfrm>
            <a:off x="1411200" y="4248000"/>
            <a:ext cx="2438280" cy="914400"/>
            <a:chOff x="1411200" y="4248000"/>
            <a:chExt cx="2438280" cy="914400"/>
          </a:xfrm>
        </p:grpSpPr>
        <p:sp>
          <p:nvSpPr>
            <p:cNvPr id="120" name=""/>
            <p:cNvSpPr/>
            <p:nvPr/>
          </p:nvSpPr>
          <p:spPr>
            <a:xfrm>
              <a:off x="2097000" y="4552920"/>
              <a:ext cx="1752480" cy="609480"/>
            </a:xfrm>
            <a:prstGeom prst="cloudCallout">
              <a:avLst>
                <a:gd name="adj1" fmla="val -2444"/>
                <a:gd name="adj2" fmla="val 28907"/>
              </a:avLst>
            </a:prstGeom>
            <a:solidFill>
              <a:srgbClr val="00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cac"/>
                  </a:solidFill>
                  <a:latin typeface="Arial"/>
                </a:rPr>
                <a:t>run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11200" y="4248000"/>
              <a:ext cx="1593720" cy="4064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cac"/>
                  </a:solidFill>
                  <a:latin typeface="Arial"/>
                </a:rPr>
                <a:t>librari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078440" y="4172040"/>
            <a:ext cx="2438280" cy="914400"/>
            <a:chOff x="4078440" y="4172040"/>
            <a:chExt cx="2438280" cy="914400"/>
          </a:xfrm>
        </p:grpSpPr>
        <p:sp>
          <p:nvSpPr>
            <p:cNvPr id="123" name=""/>
            <p:cNvSpPr/>
            <p:nvPr/>
          </p:nvSpPr>
          <p:spPr>
            <a:xfrm>
              <a:off x="4764240" y="4476960"/>
              <a:ext cx="1752480" cy="609480"/>
            </a:xfrm>
            <a:prstGeom prst="cloudCallout">
              <a:avLst>
                <a:gd name="adj1" fmla="val -2444"/>
                <a:gd name="adj2" fmla="val 28907"/>
              </a:avLst>
            </a:prstGeom>
            <a:solidFill>
              <a:srgbClr val="00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cac"/>
                  </a:solidFill>
                  <a:latin typeface="Arial"/>
                </a:rPr>
                <a:t>run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78440" y="4172040"/>
              <a:ext cx="1593720" cy="4064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cac"/>
                  </a:solidFill>
                  <a:latin typeface="Arial"/>
                </a:rPr>
                <a:t>librari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16720" y="4095720"/>
            <a:ext cx="2438280" cy="914400"/>
            <a:chOff x="6516720" y="4095720"/>
            <a:chExt cx="2438280" cy="914400"/>
          </a:xfrm>
        </p:grpSpPr>
        <p:sp>
          <p:nvSpPr>
            <p:cNvPr id="126" name=""/>
            <p:cNvSpPr/>
            <p:nvPr/>
          </p:nvSpPr>
          <p:spPr>
            <a:xfrm>
              <a:off x="7202520" y="4400640"/>
              <a:ext cx="1752480" cy="609480"/>
            </a:xfrm>
            <a:prstGeom prst="cloudCallout">
              <a:avLst>
                <a:gd name="adj1" fmla="val -2444"/>
                <a:gd name="adj2" fmla="val 28907"/>
              </a:avLst>
            </a:prstGeom>
            <a:solidFill>
              <a:srgbClr val="00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cac"/>
                  </a:solidFill>
                  <a:latin typeface="Arial"/>
                </a:rPr>
                <a:t>run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6720" y="4095720"/>
              <a:ext cx="1593720" cy="406440"/>
            </a:xfrm>
            <a:prstGeom prst="rect">
              <a:avLst/>
            </a:prstGeom>
            <a:solidFill>
              <a:srgbClr val="00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cac"/>
                  </a:solidFill>
                  <a:latin typeface="Arial"/>
                </a:rPr>
                <a:t>librari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rmediate Language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1600200"/>
            <a:ext cx="1828800" cy="914400"/>
          </a:xfrm>
          <a:prstGeom prst="ellipse">
            <a:avLst/>
          </a:prstGeom>
          <a:solidFill>
            <a:srgbClr val="006ca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uter Langu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876920"/>
            <a:ext cx="1828800" cy="914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4876920"/>
            <a:ext cx="18288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P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4876920"/>
            <a:ext cx="1828800" cy="9144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50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9" idx="4"/>
            <a:endCxn id="134" idx="0"/>
          </p:cNvCxnSpPr>
          <p:nvPr/>
        </p:nvCxnSpPr>
        <p:spPr>
          <a:xfrm flipH="1">
            <a:off x="4228560" y="2514240"/>
            <a:ext cx="38520" cy="762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34" name=""/>
          <p:cNvSpPr/>
          <p:nvPr/>
        </p:nvSpPr>
        <p:spPr>
          <a:xfrm>
            <a:off x="1066680" y="3276720"/>
            <a:ext cx="6324840" cy="9144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ac"/>
                </a:solidFill>
                <a:latin typeface="Arial"/>
              </a:rPr>
              <a:t>Intermediate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4" idx="2"/>
            <a:endCxn id="130" idx="0"/>
          </p:cNvCxnSpPr>
          <p:nvPr/>
        </p:nvCxnSpPr>
        <p:spPr>
          <a:xfrm flipH="1">
            <a:off x="1447560" y="4190760"/>
            <a:ext cx="2782080" cy="686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stCxn id="134" idx="2"/>
            <a:endCxn id="132" idx="0"/>
          </p:cNvCxnSpPr>
          <p:nvPr/>
        </p:nvCxnSpPr>
        <p:spPr>
          <a:xfrm>
            <a:off x="4229280" y="4190760"/>
            <a:ext cx="3010320" cy="686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37" name=""/>
          <p:cNvCxnSpPr>
            <a:stCxn id="134" idx="2"/>
            <a:endCxn id="131" idx="0"/>
          </p:cNvCxnSpPr>
          <p:nvPr/>
        </p:nvCxnSpPr>
        <p:spPr>
          <a:xfrm>
            <a:off x="4228920" y="4190760"/>
            <a:ext cx="38520" cy="686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5943600" y="3276720"/>
            <a:ext cx="2514600" cy="914400"/>
          </a:xfrm>
          <a:prstGeom prst="cloudCallout">
            <a:avLst>
              <a:gd name="adj1" fmla="val -17425"/>
              <a:gd name="adj2" fmla="val 51736"/>
            </a:avLst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ac"/>
                </a:solidFill>
                <a:latin typeface="Arial"/>
              </a:rPr>
              <a:t>run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2666880"/>
            <a:ext cx="2286000" cy="6098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cac"/>
                </a:solidFill>
                <a:latin typeface="Arial"/>
              </a:rPr>
              <a:t>libr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750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"/>
              </a:rPr>
              <a:t>Intermediate Language</a:t>
            </a:r>
            <a:endParaRPr b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1523880"/>
            <a:ext cx="1828800" cy="914400"/>
          </a:xfrm>
          <a:prstGeom prst="ellipse">
            <a:avLst/>
          </a:prstGeom>
          <a:solidFill>
            <a:srgbClr val="006cac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105520"/>
            <a:ext cx="1828800" cy="9144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105520"/>
            <a:ext cx="18288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P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5105520"/>
            <a:ext cx="1828800" cy="9144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c7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50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505320"/>
            <a:ext cx="6324480" cy="9144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ac"/>
                </a:solidFill>
                <a:latin typeface="Arial"/>
              </a:rPr>
              <a:t>MS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2"/>
            <a:endCxn id="142" idx="0"/>
          </p:cNvCxnSpPr>
          <p:nvPr/>
        </p:nvCxnSpPr>
        <p:spPr>
          <a:xfrm flipH="1">
            <a:off x="2209320" y="4419360"/>
            <a:ext cx="2401200" cy="686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7" name=""/>
          <p:cNvCxnSpPr>
            <a:stCxn id="145" idx="2"/>
            <a:endCxn id="144" idx="0"/>
          </p:cNvCxnSpPr>
          <p:nvPr/>
        </p:nvCxnSpPr>
        <p:spPr>
          <a:xfrm>
            <a:off x="4609800" y="4419360"/>
            <a:ext cx="3391560" cy="686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48" name=""/>
          <p:cNvCxnSpPr>
            <a:stCxn id="145" idx="2"/>
            <a:endCxn id="143" idx="0"/>
          </p:cNvCxnSpPr>
          <p:nvPr/>
        </p:nvCxnSpPr>
        <p:spPr>
          <a:xfrm>
            <a:off x="4610160" y="4419360"/>
            <a:ext cx="419760" cy="6865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49" name=""/>
          <p:cNvSpPr/>
          <p:nvPr/>
        </p:nvSpPr>
        <p:spPr>
          <a:xfrm>
            <a:off x="6324480" y="3505320"/>
            <a:ext cx="2514600" cy="914400"/>
          </a:xfrm>
          <a:prstGeom prst="cloudCallout">
            <a:avLst>
              <a:gd name="adj1" fmla="val -17425"/>
              <a:gd name="adj2" fmla="val 51736"/>
            </a:avLst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ac"/>
                </a:solidFill>
                <a:latin typeface="Arial"/>
              </a:rPr>
              <a:t>run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895480"/>
            <a:ext cx="2286000" cy="60984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cac"/>
                </a:solidFill>
                <a:latin typeface="Arial"/>
              </a:rPr>
              <a:t>libr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1523880"/>
            <a:ext cx="1828800" cy="9144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523880"/>
            <a:ext cx="1828800" cy="9144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4"/>
            <a:endCxn id="154" idx="0"/>
          </p:cNvCxnSpPr>
          <p:nvPr/>
        </p:nvCxnSpPr>
        <p:spPr>
          <a:xfrm flipH="1">
            <a:off x="3290040" y="2437920"/>
            <a:ext cx="1815480" cy="839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155" name=""/>
          <p:cNvCxnSpPr>
            <a:stCxn id="152" idx="4"/>
            <a:endCxn id="156" idx="0"/>
          </p:cNvCxnSpPr>
          <p:nvPr/>
        </p:nvCxnSpPr>
        <p:spPr>
          <a:xfrm flipH="1">
            <a:off x="4737960" y="2437920"/>
            <a:ext cx="2500920" cy="839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  <p:grpSp>
        <p:nvGrpSpPr>
          <p:cNvPr id="157" name=""/>
          <p:cNvGrpSpPr/>
          <p:nvPr/>
        </p:nvGrpSpPr>
        <p:grpSpPr>
          <a:xfrm>
            <a:off x="1447920" y="3124080"/>
            <a:ext cx="1479600" cy="380880"/>
            <a:chOff x="1447920" y="3124080"/>
            <a:chExt cx="1479600" cy="380880"/>
          </a:xfrm>
        </p:grpSpPr>
        <p:sp>
          <p:nvSpPr>
            <p:cNvPr id="158" name=""/>
            <p:cNvSpPr/>
            <p:nvPr/>
          </p:nvSpPr>
          <p:spPr>
            <a:xfrm>
              <a:off x="2057760" y="3124080"/>
              <a:ext cx="869760" cy="380880"/>
            </a:xfrm>
            <a:prstGeom prst="cloudCallout">
              <a:avLst>
                <a:gd name="adj1" fmla="val 912"/>
                <a:gd name="adj2" fmla="val 17083"/>
              </a:avLst>
            </a:prstGeom>
            <a:solidFill>
              <a:srgbClr val="f3a05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6cac"/>
                  </a:solidFill>
                  <a:latin typeface="Arial"/>
                </a:rPr>
                <a:t>runtim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7920" y="3276360"/>
              <a:ext cx="790560" cy="228600"/>
            </a:xfrm>
            <a:prstGeom prst="rect">
              <a:avLst/>
            </a:prstGeom>
            <a:solidFill>
              <a:srgbClr val="f3a05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6cac"/>
                  </a:solidFill>
                  <a:latin typeface="Arial"/>
                </a:rPr>
                <a:t>librari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95480" y="3124080"/>
            <a:ext cx="1479600" cy="380880"/>
            <a:chOff x="2895480" y="3124080"/>
            <a:chExt cx="1479600" cy="380880"/>
          </a:xfrm>
        </p:grpSpPr>
        <p:sp>
          <p:nvSpPr>
            <p:cNvPr id="161" name=""/>
            <p:cNvSpPr/>
            <p:nvPr/>
          </p:nvSpPr>
          <p:spPr>
            <a:xfrm>
              <a:off x="3505320" y="3124080"/>
              <a:ext cx="869760" cy="380880"/>
            </a:xfrm>
            <a:prstGeom prst="cloudCallout">
              <a:avLst>
                <a:gd name="adj1" fmla="val 912"/>
                <a:gd name="adj2" fmla="val 17083"/>
              </a:avLst>
            </a:prstGeom>
            <a:solidFill>
              <a:srgbClr val="ad72c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6cac"/>
                  </a:solidFill>
                  <a:latin typeface="Arial"/>
                </a:rPr>
                <a:t>runtim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3276360"/>
              <a:ext cx="790560" cy="228600"/>
            </a:xfrm>
            <a:prstGeom prst="rect">
              <a:avLst/>
            </a:prstGeom>
            <a:solidFill>
              <a:srgbClr val="ad72c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6cac"/>
                  </a:solidFill>
                  <a:latin typeface="Arial"/>
                </a:rPr>
                <a:t>librari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343400" y="3124080"/>
            <a:ext cx="1479600" cy="380880"/>
            <a:chOff x="4343400" y="3124080"/>
            <a:chExt cx="1479600" cy="380880"/>
          </a:xfrm>
        </p:grpSpPr>
        <p:sp>
          <p:nvSpPr>
            <p:cNvPr id="163" name=""/>
            <p:cNvSpPr/>
            <p:nvPr/>
          </p:nvSpPr>
          <p:spPr>
            <a:xfrm>
              <a:off x="4953240" y="3124080"/>
              <a:ext cx="869760" cy="380880"/>
            </a:xfrm>
            <a:prstGeom prst="cloudCallout">
              <a:avLst>
                <a:gd name="adj1" fmla="val 912"/>
                <a:gd name="adj2" fmla="val 17083"/>
              </a:avLst>
            </a:prstGeom>
            <a:solidFill>
              <a:srgbClr val="00c7c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6cac"/>
                  </a:solidFill>
                  <a:latin typeface="Arial"/>
                </a:rPr>
                <a:t>runtim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3400" y="3276360"/>
              <a:ext cx="790560" cy="228600"/>
            </a:xfrm>
            <a:prstGeom prst="rect">
              <a:avLst/>
            </a:prstGeom>
            <a:solidFill>
              <a:srgbClr val="00c7c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6cac"/>
                  </a:solidFill>
                  <a:latin typeface="Arial"/>
                </a:rPr>
                <a:t>librarie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41" idx="4"/>
            <a:endCxn id="159" idx="0"/>
          </p:cNvCxnSpPr>
          <p:nvPr/>
        </p:nvCxnSpPr>
        <p:spPr>
          <a:xfrm flipH="1">
            <a:off x="1842840" y="2437920"/>
            <a:ext cx="1281600" cy="839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9T02:04:21Z</dcterms:created>
  <dc:creator>Peter Groenewegen</dc:creator>
  <dc:description/>
  <cp:keywords>.NET C#</cp:keywords>
  <dc:language>en-US</dc:language>
  <cp:lastModifiedBy>Administrator</cp:lastModifiedBy>
  <dcterms:modified xsi:type="dcterms:W3CDTF">1980-01-06T01:59:51Z</dcterms:modified>
  <cp:revision>104</cp:revision>
  <dc:subject/>
  <dc:title>.NET and C#</dc:title>
</cp:coreProperties>
</file>