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906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14440" y="880920"/>
            <a:ext cx="5829480" cy="825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P 30-9-’97</a:t>
            </a:r>
            <a:br>
              <a:rPr sz="36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men de Jong</a:t>
            </a:r>
            <a:br>
              <a:rPr sz="4400"/>
            </a:br>
            <a:br>
              <a:rPr sz="18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Z R&amp;D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nds 1 augustus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ie: Informatica, 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 - G.S. - GUI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erzoeken m.b.t. D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14440" y="286236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rdere 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kzelf en 3 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volgproject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bouw W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 reverse engineeri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bouw W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4440" y="2862360"/>
            <a:ext cx="582948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, Java(beans), op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Logic: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objects, componenten,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distribueerde transacties, wrapping van bestaande D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38120" y="75675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uur: COR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14440" y="3852720"/>
            <a:ext cx="2838600" cy="324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s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elzijd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elbelov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itdag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05320" y="3852720"/>
            <a:ext cx="28386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u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en t.a.v.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brek aan 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7680" y="2557440"/>
            <a:ext cx="41083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90400" y="72374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ag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 bij ASZ/G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4440" y="286236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atie GAK/A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idige IT-situatie G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wenste verande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e van ASZ R&amp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ulling in de prakt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orbeelden van 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e en 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atie GAK/AS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idige IT-situatie G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14440" y="2532240"/>
            <a:ext cx="582948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o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preid over hel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14440" y="6989760"/>
            <a:ext cx="582948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gestructureerd, monolithi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exi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eilijk en duur onderh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61800" y="50911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 Systeme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roblem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wenste veranderinge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ontsluiting” van legacy-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14440" y="2862360"/>
            <a:ext cx="58294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lithische mainframe applicaties --&gt; C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uwe interfaces (GUI’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euwe softwarearchite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e van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4440" y="2862360"/>
            <a:ext cx="5829480" cy="15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distribueerde syst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38120" y="4843440"/>
            <a:ext cx="5829480" cy="31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O.T.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component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: fysieke architec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0720" y="3603600"/>
            <a:ext cx="920880" cy="86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41440" y="3527280"/>
            <a:ext cx="946080" cy="89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65040" y="2706840"/>
            <a:ext cx="188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tel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86200" y="3697200"/>
            <a:ext cx="838080" cy="1008000"/>
            <a:chOff x="3886200" y="3697200"/>
            <a:chExt cx="838080" cy="1008000"/>
          </a:xfrm>
        </p:grpSpPr>
        <p:sp>
          <p:nvSpPr>
            <p:cNvPr id="57" name=""/>
            <p:cNvSpPr/>
            <p:nvPr/>
          </p:nvSpPr>
          <p:spPr>
            <a:xfrm>
              <a:off x="3886200" y="3797280"/>
              <a:ext cx="838080" cy="907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95680" y="3797280"/>
              <a:ext cx="0" cy="90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3946680" y="369720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4479840" y="3846600"/>
              <a:ext cx="222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876920" y="3614760"/>
            <a:ext cx="838080" cy="1008000"/>
            <a:chOff x="4876920" y="3614760"/>
            <a:chExt cx="838080" cy="1008000"/>
          </a:xfrm>
        </p:grpSpPr>
        <p:sp>
          <p:nvSpPr>
            <p:cNvPr id="62" name=""/>
            <p:cNvSpPr/>
            <p:nvPr/>
          </p:nvSpPr>
          <p:spPr>
            <a:xfrm>
              <a:off x="4876920" y="3714840"/>
              <a:ext cx="838080" cy="907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6400" y="3714840"/>
              <a:ext cx="0" cy="90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4937040" y="361476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5470560" y="3763800"/>
              <a:ext cx="222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3567240" y="262404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/VAX/VMS/NT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895480" y="7399440"/>
            <a:ext cx="1371600" cy="1020600"/>
            <a:chOff x="2895480" y="7399440"/>
            <a:chExt cx="1371600" cy="1020600"/>
          </a:xfrm>
        </p:grpSpPr>
        <p:sp>
          <p:nvSpPr>
            <p:cNvPr id="68" name=""/>
            <p:cNvSpPr/>
            <p:nvPr/>
          </p:nvSpPr>
          <p:spPr>
            <a:xfrm>
              <a:off x="2895480" y="7512120"/>
              <a:ext cx="1371600" cy="907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68800" y="7512120"/>
              <a:ext cx="0" cy="90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3181320" y="739944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2911320" y="7548480"/>
              <a:ext cx="222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.</a:t>
              </a:r>
              <a:br>
                <a:rPr sz="1200"/>
              </a:b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343400" y="7316640"/>
            <a:ext cx="1143000" cy="1020960"/>
            <a:chOff x="4343400" y="7316640"/>
            <a:chExt cx="1143000" cy="1020960"/>
          </a:xfrm>
        </p:grpSpPr>
        <p:sp>
          <p:nvSpPr>
            <p:cNvPr id="73" name=""/>
            <p:cNvSpPr/>
            <p:nvPr/>
          </p:nvSpPr>
          <p:spPr>
            <a:xfrm>
              <a:off x="4343400" y="7429680"/>
              <a:ext cx="1143000" cy="907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54440" y="7429680"/>
              <a:ext cx="0" cy="907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4581360" y="731664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---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4356000" y="7466040"/>
              <a:ext cx="222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.</a:t>
              </a:r>
              <a:br>
                <a:rPr sz="1200"/>
              </a:b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1509840" y="8732880"/>
            <a:ext cx="455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: Oracle, Ingres, DBM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5778360"/>
            <a:ext cx="541008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727360" y="5761080"/>
            <a:ext cx="116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292640"/>
            <a:ext cx="0" cy="1485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210200"/>
            <a:ext cx="0" cy="1568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705200"/>
            <a:ext cx="0" cy="107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622760"/>
            <a:ext cx="0" cy="1155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876920" y="6273720"/>
            <a:ext cx="0" cy="115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657600" y="6273720"/>
            <a:ext cx="0" cy="115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: conceptu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1360" y="3036960"/>
            <a:ext cx="2664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/GUI obje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3040" y="3036960"/>
            <a:ext cx="121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85800" y="8650440"/>
            <a:ext cx="3290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 objecten/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778360"/>
            <a:ext cx="5410080" cy="495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17880" y="5761080"/>
            <a:ext cx="269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Bus / O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4540320"/>
            <a:ext cx="0" cy="123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540320"/>
            <a:ext cx="0" cy="123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4705200"/>
            <a:ext cx="0" cy="107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4622760"/>
            <a:ext cx="0" cy="1155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876920" y="6273720"/>
            <a:ext cx="0" cy="115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6273720"/>
            <a:ext cx="0" cy="115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3714840"/>
            <a:ext cx="838080" cy="9079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3632040"/>
            <a:ext cx="838080" cy="9079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3797280"/>
            <a:ext cx="838080" cy="9079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3714840"/>
            <a:ext cx="838080" cy="9079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7429680"/>
            <a:ext cx="838080" cy="9079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7429680"/>
            <a:ext cx="838080" cy="9079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4440" y="88092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kzaamheden R&amp;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4440" y="2862360"/>
            <a:ext cx="5829480" cy="398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eel onderzoe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&gt; k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egepast onderzoe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&gt; prot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en produktontwikkel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 nog niet ve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4440" y="707220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erzoek d.m.v. afstudeer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men</dc:creator>
  <dc:description/>
  <dc:language>en-US</dc:language>
  <cp:lastModifiedBy>Irmen</cp:lastModifiedBy>
  <cp:revision>0</cp:revision>
  <dc:subject/>
  <dc:title>OOP 30-9-'97  Irmen de Jong  ASZ R&amp;D (sinds 1 augustus)    Studie: Informatica, SE OO - G.S. - GUI's</dc:title>
</cp:coreProperties>
</file>